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6C9-5004-4288-84F0-9EE3B04292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9D12-64DD-4C07-9246-7730F79936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e  is R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ijn er veel gemeen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E25-DC89-4C8B-BD60-81E6B9A0D1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wat waar mag dat vra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49E6-A543-4B84-B630-853250886A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voorbeeld van complexoverheidshandelen is het luchthaven indelingsbesl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t geeft a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 slopen objec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f en hoe hoog er mag worden gebouw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IB geldt in 80% van geme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A060-B321-4A27-843C-8D14AF5742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37B-7074-4BDA-B5FB-5DDA49976D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558-5A3D-4C94-8AE9-CFF35D92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F15-3FD4-4131-888A-E3A144C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28F6-5BF0-4491-9BE2-FBE630F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1E04-E065-4C05-B77C-B533891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A554-C984-4335-BB9E-D36DEFC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B7C28-F04E-4A04-A700-1FE4583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7FB7D-D74D-4897-B67C-293ECC9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7492B-1A19-472E-8CFD-9E9883A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57354-DD21-49EB-AF58-45E8D2F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4EF1-C8C8-4D2D-9011-55854F8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2F02B-9A57-47A6-9C1A-05DCC1B3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68972-AA33-4177-AD4D-73A8349A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64A-BA2F-4969-B3F9-DB0884F2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0B0AA-7F63-427D-A9EC-0949C71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D73EF-59BE-470A-B844-246C0EA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976E1-DBA3-4AC6-943F-AFA4590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46B4B-5BCD-471B-90BA-C7BA0153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B801-E93C-4248-BA18-CD414D7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A5EDE-1BE1-48C5-8BBC-F8C80DD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2D2EF-8966-4259-8580-90F47D7B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70055-3EB5-4B6B-A0DC-22A6A26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3474B-BCE0-45C7-9D4E-A80884C2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88DE6-2A0B-4EE3-9559-7F2D3C5B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783-88C6-4800-9B04-F630CC60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32DC1-580D-4D1F-89FA-A59AF05B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C1D8-54BD-4854-AE7C-CA6EB10E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4CB9-5185-4008-BE45-44CEE7E9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83FCE-DF69-4BA5-B367-0DFA28CE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99B11-7274-47CB-B007-FC5A6AEE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36D77-674D-43E0-BEC3-62F137A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44AC4-ACEF-4F8A-B3E0-A4C0B40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D30A-9584-4673-8EE2-AD32CDD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4843E-6AD7-408B-805A-1AC797E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4A72-CEC0-463C-B352-2E2F0D44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93A1-25E6-4492-9F57-BB4F3529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1DB0C-4F26-496D-BFE6-8A77A2C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A318-7388-4E9A-B29B-C08319A0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767E1-C746-4CA9-AB49-848AC773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212B0-E3B1-4525-9B31-A16C3951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D0063-0401-4606-9E52-50869F0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B598E-08D3-489E-B20F-F6557BC1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0A62D-73FE-4F35-8775-AD072DA5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8E7CC-A3E0-44FC-95E6-132B2693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95263-A4ED-45E9-8080-773A2DC1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B11D2-EE40-4A17-886B-C1FBAC6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3475-D8E8-43F0-BDD2-9C203383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E4AE2-5A1D-4C2E-B780-86BE26FE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DEDFA-A819-4A06-80E9-715BC69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67667-0C67-4E9B-9898-121414DF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E6321-0556-4496-9BA7-70126B65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03DB7-573B-48C2-B4BC-61C89AEB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3AE-14C4-47C4-ABB0-6AF2F27B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F263-82F4-4F49-BFE2-31A2FD9C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4427-272C-439B-B0E1-80F7E488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DD7E-8832-4E85-BDDE-029F84D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A401-4D6D-46F8-BFE9-339D0EA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B06-7552-4FAE-B489-C48FBB16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CB3-5142-47A6-AAE2-34658A7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AFC-6689-46AE-A715-C6ED3E57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92A-6164-46F2-BF32-B401781A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0877-8E07-41A2-9007-86127144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5B17-4C91-4770-AB49-93246C67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FE2F-5A27-465C-AE65-FD576039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FF2D-94D4-4359-9FAE-D98CF38F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5990-3DED-4BFC-AFE3-F5716F29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440A-AC8C-4621-96A4-7B5A6D2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FE81-CF42-4166-902D-40D74C1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DB5-C83C-4D3F-BA96-B3CADBE8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12D6-2ABF-4C0B-A505-2990B03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C5E4-CBA4-4A1B-B6FF-1E636AA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A218-42EA-4AC3-9CDB-D3FED0C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788C-A337-4DB9-A5F4-D69B1FD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ACB3-1CE6-40B2-B8F2-2C07CCE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B075-98A5-4B6A-8292-6381F7F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7AB3-B128-4062-A6D1-FFE5ABCC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08F0-98F3-4EC5-9EDE-36E63202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4EDF-1C55-4EC8-86D6-696B3CD7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372D-D03F-4BF6-AF06-799F1BFF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3A8-46C1-4463-99FA-989E158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2E5D-6460-4F57-A3DB-9CC9D8F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2645-309F-4BCE-817D-D555D50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6BAF-5DEE-4E41-A82F-735FB82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29C0-BEF0-4A35-9E98-3243878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2FF2-8F2E-4CB3-8823-537F6F26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9CFD-6475-4672-A797-0D8685F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9EA0-ACED-49C5-BC6D-124E43EC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67AC-CC75-4B82-97DB-3206FF73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19C6-34C6-44E1-9775-8680B427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214C-CE5D-42EB-87E0-5072D61A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605-FD33-4890-8B66-EBCE3C9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DC2F-5C72-4723-B0A2-8DF59158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7455C-1329-457C-B37F-ADA26FF7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8D52-80D2-4B5E-800C-4115A1C5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B2CB9-12EB-4F4F-B069-076D3454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8D16-11F1-4FCC-9D25-58F1D31F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E318-A72E-4EF7-B60E-B59669A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C2D3-951D-4B3B-8464-188FBBF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A6C4-24C4-4AF4-BC1C-C4DE432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24DA-264D-4924-AF8C-1D41FD7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FE13-701C-4AF4-B999-E1D9887E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D88-340E-43A9-95F3-DFDEE665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AD0E-2C7D-43A7-B28C-D0781A9F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4470-C98D-482A-9A8E-4403DAF8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45B7-9F22-4A35-82FD-EDEC9E4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2192-7897-4B00-B5B9-DE092CA8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B3A7-07C7-45B0-810C-746E59EA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F0A5-3840-48A8-9728-C31B24E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EBC1B-406A-4B25-855E-CAC817E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81779-E983-4B99-B28D-81852D5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1742-CD90-4992-92CE-9C0F42E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10EA-C659-4BA4-80DB-D039FFD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FBB-E0CC-4230-A8AF-4014C13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E9AB-32DC-4243-91EA-8738484A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ADB9-B3ED-4481-953F-55B07BC5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54CF2-E697-472A-AB13-B484F21C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865A-744B-433E-97B3-428D9ADC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6650-4C6C-453B-812C-408B227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36438-77F1-45A2-8146-A464FF3C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96989-006F-498F-8C77-7297BE6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4F30-D482-432A-9127-00FA2C3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F70F-709D-4370-B583-FD74117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613D-EDCC-43F4-9B3C-AE68F142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7B1-950B-4560-A123-C7DEF13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17E0-8C70-431D-B876-9ADB8FC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1A30-590D-41FE-B02F-EE97F4D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4EF1-75D7-4CCF-B59F-CC5A985B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33D1-EACE-4DB8-AB3A-7B93A4AC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7F6FD-EFE3-4CA2-B714-F0397C35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A7626-4C81-45D9-B9AA-6A1BBE2E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E00B4-FDB1-4F0C-9603-2EC11AEE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65C7-B662-4457-957D-E7C749E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D82E-9D87-422E-963C-7AF6DD2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AD3BB-02FF-43D6-9269-E5384C0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204-664A-41F1-90C3-42FECC5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D0A4D-3D26-42F8-9D82-180BCC32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67CC-6052-49C0-8FDD-E9C375D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1A32C-7D2B-4E78-AF19-19E151C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B326-5DBE-4C18-968E-FC590749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599840" y="4494240"/>
            <a:ext cx="70102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72FC-504C-4171-97FF-1013CD5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91920" y="27428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59984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91920" y="4494240"/>
            <a:ext cx="3420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1753-6601-4B5A-BD70-34EECB26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7044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340680" y="27428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5998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97044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340680" y="4494240"/>
            <a:ext cx="22572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FA1EB-7FD1-41F9-AEDB-EFFF192C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8C405-A141-494D-AFA0-EEE55D27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1067A-0624-4087-927A-ECB32449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6C672-F16E-41A5-A6A6-7217CEBD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2520-F2CE-4A3C-A67A-5630A441CD49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021-0065-45FF-9C93-7151C260B28D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99BD-6F2D-4020-86CC-800A91FDCE50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F32-FAF9-45DC-9AA9-723967BBC58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56E2-090C-4D97-AEE4-506D2A06E1C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37A-B3D5-45B6-B753-F8452368B9B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CBF-1C6E-4B2C-B877-43093D18EF1B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1774-D5C8-4AA0-9DDB-1E1D68D1BB11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723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E2FF-9906-455C-9A35-723B50CF5B76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Presenta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107-77E4-45AE-BE7B-60B4783CD031}" type="slidenum">
              <a:rPr b="1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B60-06FC-44EB-9699-2BC9B193F7D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9D0-DDC1-4857-9A8F-E2E30DA6D25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BDE8-053F-4ABC-934D-8BB26971D489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000F-C6B5-4874-A96B-30E28ACD784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AD3-6E3A-4FF8-BADA-59333B1A4941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CCA-0541-4532-8576-EF114F3266C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076-0BA8-40E1-BEFF-2D7B452B179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436-EE72-46E5-B085-CB6DB88E8259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9D9-FEFF-4088-8359-3A3A14B2CD7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6597-71B9-4932-96A9-73D7AA8B0E9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B86-900A-41B3-8B0D-60FC34AF38A1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0528-1474-4908-B862-900331B96517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723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509F-7786-438B-8066-21E3DA87FEF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8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C345-1C89-4F2B-9F13-AB12C1701740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716000" y="3957480"/>
            <a:ext cx="403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arlemmermeer en VROM in het stelse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 oktober 2009</a:t>
            </a:r>
            <a:endParaRPr b="1" lang="en-US" sz="16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40200" y="5299200"/>
            <a:ext cx="328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ff"/>
                </a:solidFill>
                <a:latin typeface="Arial"/>
              </a:rPr>
              <a:t>Rik Duur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ff"/>
                </a:solidFill>
                <a:latin typeface="Arial"/>
              </a:rPr>
              <a:t>gegevens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9999"/>
                </a:solidFill>
                <a:latin typeface="Arial"/>
              </a:rPr>
              <a:t>h.duursma@haarlemmermeer.n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1024"/>
          <p:cNvGrpSpPr/>
          <p:nvPr/>
        </p:nvGrpSpPr>
        <p:grpSpPr>
          <a:xfrm>
            <a:off x="5237280" y="4757760"/>
            <a:ext cx="2417400" cy="1889280"/>
            <a:chOff x="5237280" y="4757760"/>
            <a:chExt cx="2417400" cy="1889280"/>
          </a:xfrm>
        </p:grpSpPr>
        <p:grpSp>
          <p:nvGrpSpPr>
            <p:cNvPr id="514" name="Group 1025"/>
            <p:cNvGrpSpPr/>
            <p:nvPr/>
          </p:nvGrpSpPr>
          <p:grpSpPr>
            <a:xfrm>
              <a:off x="5253120" y="5044680"/>
              <a:ext cx="2401560" cy="1602360"/>
              <a:chOff x="5253120" y="5044680"/>
              <a:chExt cx="2401560" cy="1602360"/>
            </a:xfrm>
          </p:grpSpPr>
          <p:sp>
            <p:nvSpPr>
              <p:cNvPr id="515" name="Freeform 1026"/>
              <p:cNvSpPr/>
              <p:nvPr/>
            </p:nvSpPr>
            <p:spPr>
              <a:xfrm>
                <a:off x="5929200" y="5044680"/>
                <a:ext cx="994320" cy="533880"/>
              </a:xfrm>
              <a:prstGeom prst="pie">
                <a:avLst/>
              </a:prstGeom>
              <a:solidFill>
                <a:srgbClr val="5f009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027"/>
              <p:cNvSpPr/>
              <p:nvPr/>
            </p:nvSpPr>
            <p:spPr>
              <a:xfrm>
                <a:off x="6738480" y="5507280"/>
                <a:ext cx="795600" cy="682920"/>
              </a:xfrm>
              <a:prstGeom prst="pie">
                <a:avLst/>
              </a:prstGeom>
              <a:solidFill>
                <a:srgbClr val="00fff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028"/>
              <p:cNvSpPr/>
              <p:nvPr/>
            </p:nvSpPr>
            <p:spPr>
              <a:xfrm>
                <a:off x="5996880" y="5403240"/>
                <a:ext cx="950040" cy="726480"/>
              </a:xfrm>
              <a:prstGeom prst="pie">
                <a:avLst/>
              </a:prstGeom>
              <a:solidFill>
                <a:srgbClr val="00800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029"/>
              <p:cNvSpPr/>
              <p:nvPr/>
            </p:nvSpPr>
            <p:spPr>
              <a:xfrm>
                <a:off x="6741000" y="5044680"/>
                <a:ext cx="690840" cy="617760"/>
              </a:xfrm>
              <a:prstGeom prst="pie">
                <a:avLst/>
              </a:prstGeom>
              <a:solidFill>
                <a:srgbClr val="ff5f00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030"/>
              <p:cNvSpPr/>
              <p:nvPr/>
            </p:nvSpPr>
            <p:spPr>
              <a:xfrm>
                <a:off x="5336640" y="5522400"/>
                <a:ext cx="855720" cy="701640"/>
              </a:xfrm>
              <a:prstGeom prst="pie">
                <a:avLst/>
              </a:prstGeom>
              <a:solidFill>
                <a:srgbClr val="ff00ff"/>
              </a:solidFill>
              <a:ln w="10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1031"/>
              <p:cNvGrpSpPr/>
              <p:nvPr/>
            </p:nvGrpSpPr>
            <p:grpSpPr>
              <a:xfrm>
                <a:off x="5995080" y="5920920"/>
                <a:ext cx="822600" cy="726120"/>
                <a:chOff x="5995080" y="5920920"/>
                <a:chExt cx="822600" cy="726120"/>
              </a:xfrm>
            </p:grpSpPr>
            <p:sp>
              <p:nvSpPr>
                <p:cNvPr id="521" name="Rectangle 1032"/>
                <p:cNvSpPr/>
                <p:nvPr/>
              </p:nvSpPr>
              <p:spPr>
                <a:xfrm>
                  <a:off x="6076080" y="6552000"/>
                  <a:ext cx="673200" cy="95040"/>
                </a:xfrm>
                <a:prstGeom prst="rect">
                  <a:avLst/>
                </a:prstGeom>
                <a:solidFill>
                  <a:srgbClr val="808000"/>
                </a:solidFill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1033"/>
                <p:cNvSpPr/>
                <p:nvPr/>
              </p:nvSpPr>
              <p:spPr>
                <a:xfrm>
                  <a:off x="5995080" y="5920920"/>
                  <a:ext cx="822600" cy="628200"/>
                </a:xfrm>
                <a:prstGeom prst="pie">
                  <a:avLst/>
                </a:prstGeom>
                <a:solidFill>
                  <a:srgbClr val="ffff00"/>
                </a:solidFill>
                <a:ln w="10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1034"/>
              <p:cNvGrpSpPr/>
              <p:nvPr/>
            </p:nvGrpSpPr>
            <p:grpSpPr>
              <a:xfrm>
                <a:off x="5253120" y="6027120"/>
                <a:ext cx="889920" cy="618840"/>
                <a:chOff x="5253120" y="6027120"/>
                <a:chExt cx="889920" cy="618840"/>
              </a:xfrm>
            </p:grpSpPr>
            <p:sp>
              <p:nvSpPr>
                <p:cNvPr id="524" name="Freeform 1035"/>
                <p:cNvSpPr/>
                <p:nvPr/>
              </p:nvSpPr>
              <p:spPr>
                <a:xfrm>
                  <a:off x="5253120" y="6027120"/>
                  <a:ext cx="889920" cy="525240"/>
                </a:xfrm>
                <a:prstGeom prst="pie">
                  <a:avLst/>
                </a:prstGeom>
                <a:solidFill>
                  <a:srgbClr val="9f3fdf"/>
                </a:solidFill>
                <a:ln w="10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1036"/>
                <p:cNvSpPr/>
                <p:nvPr/>
              </p:nvSpPr>
              <p:spPr>
                <a:xfrm>
                  <a:off x="5253120" y="6552720"/>
                  <a:ext cx="822240" cy="93240"/>
                </a:xfrm>
                <a:prstGeom prst="rect">
                  <a:avLst/>
                </a:prstGeom>
                <a:solidFill>
                  <a:srgbClr val="5f009f"/>
                </a:solidFill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1037"/>
              <p:cNvGrpSpPr/>
              <p:nvPr/>
            </p:nvGrpSpPr>
            <p:grpSpPr>
              <a:xfrm>
                <a:off x="6612480" y="6014160"/>
                <a:ext cx="1042200" cy="632880"/>
                <a:chOff x="6612480" y="6014160"/>
                <a:chExt cx="1042200" cy="632880"/>
              </a:xfrm>
            </p:grpSpPr>
            <p:sp>
              <p:nvSpPr>
                <p:cNvPr id="527" name="Freeform 1038"/>
                <p:cNvSpPr/>
                <p:nvPr/>
              </p:nvSpPr>
              <p:spPr>
                <a:xfrm>
                  <a:off x="6612480" y="6014160"/>
                  <a:ext cx="1042200" cy="536400"/>
                </a:xfrm>
                <a:prstGeom prst="pie">
                  <a:avLst/>
                </a:prstGeom>
                <a:solidFill>
                  <a:srgbClr val="0000ff"/>
                </a:solidFill>
                <a:ln w="10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1039"/>
                <p:cNvSpPr/>
                <p:nvPr/>
              </p:nvSpPr>
              <p:spPr>
                <a:xfrm>
                  <a:off x="6752160" y="6550920"/>
                  <a:ext cx="902520" cy="96120"/>
                </a:xfrm>
                <a:prstGeom prst="rect">
                  <a:avLst/>
                </a:prstGeom>
                <a:solidFill>
                  <a:srgbClr val="000080"/>
                </a:solidFill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Group 1040"/>
            <p:cNvGrpSpPr/>
            <p:nvPr/>
          </p:nvGrpSpPr>
          <p:grpSpPr>
            <a:xfrm>
              <a:off x="5237280" y="4757760"/>
              <a:ext cx="698400" cy="685440"/>
              <a:chOff x="5237280" y="4757760"/>
              <a:chExt cx="698400" cy="685440"/>
            </a:xfrm>
          </p:grpSpPr>
          <p:sp>
            <p:nvSpPr>
              <p:cNvPr id="530" name="Freeform 1041"/>
              <p:cNvSpPr/>
              <p:nvPr/>
            </p:nvSpPr>
            <p:spPr>
              <a:xfrm>
                <a:off x="5237280" y="4757760"/>
                <a:ext cx="698400" cy="685440"/>
              </a:xfrm>
              <a:prstGeom prst="pie">
                <a:avLst/>
              </a:prstGeom>
              <a:solidFill>
                <a:srgbClr val="e6f0c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042"/>
              <p:cNvSpPr/>
              <p:nvPr/>
            </p:nvSpPr>
            <p:spPr>
              <a:xfrm>
                <a:off x="5312880" y="4792320"/>
                <a:ext cx="340920" cy="3304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043"/>
              <p:cNvSpPr/>
              <p:nvPr/>
            </p:nvSpPr>
            <p:spPr>
              <a:xfrm>
                <a:off x="5371920" y="4938480"/>
                <a:ext cx="372600" cy="3942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044"/>
              <p:cNvSpPr/>
              <p:nvPr/>
            </p:nvSpPr>
            <p:spPr>
              <a:xfrm>
                <a:off x="5237280" y="4757760"/>
                <a:ext cx="698400" cy="685440"/>
              </a:xfrm>
              <a:prstGeom prst="pie">
                <a:avLst/>
              </a:prstGeom>
              <a:noFill/>
              <a:ln cap="rnd" w="5724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045"/>
              <p:cNvSpPr/>
              <p:nvPr/>
            </p:nvSpPr>
            <p:spPr>
              <a:xfrm>
                <a:off x="5284080" y="4758120"/>
                <a:ext cx="344880" cy="252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1046"/>
              <p:cNvSpPr/>
              <p:nvPr/>
            </p:nvSpPr>
            <p:spPr>
              <a:xfrm>
                <a:off x="5394240" y="4964760"/>
                <a:ext cx="234720" cy="246240"/>
              </a:xfrm>
              <a:prstGeom prst="pie">
                <a:avLst/>
              </a:prstGeom>
              <a:solidFill>
                <a:srgbClr val="cc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1047"/>
              <p:cNvSpPr/>
              <p:nvPr/>
            </p:nvSpPr>
            <p:spPr>
              <a:xfrm>
                <a:off x="5309280" y="4758120"/>
                <a:ext cx="168480" cy="127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1048"/>
              <p:cNvSpPr/>
              <p:nvPr/>
            </p:nvSpPr>
            <p:spPr>
              <a:xfrm>
                <a:off x="5312880" y="4991400"/>
                <a:ext cx="164880" cy="341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1049"/>
              <p:cNvSpPr/>
              <p:nvPr/>
            </p:nvSpPr>
            <p:spPr>
              <a:xfrm>
                <a:off x="5284080" y="4758120"/>
                <a:ext cx="344880" cy="252360"/>
              </a:xfrm>
              <a:prstGeom prst="pie">
                <a:avLst/>
              </a:prstGeom>
              <a:solidFill>
                <a:srgbClr val="9b9b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1050"/>
              <p:cNvSpPr/>
              <p:nvPr/>
            </p:nvSpPr>
            <p:spPr>
              <a:xfrm>
                <a:off x="5478480" y="5134320"/>
                <a:ext cx="266400" cy="198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1051"/>
              <p:cNvSpPr/>
              <p:nvPr/>
            </p:nvSpPr>
            <p:spPr>
              <a:xfrm>
                <a:off x="5585400" y="4792320"/>
                <a:ext cx="159480" cy="341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1052"/>
              <p:cNvSpPr/>
              <p:nvPr/>
            </p:nvSpPr>
            <p:spPr>
              <a:xfrm>
                <a:off x="5578920" y="4938480"/>
                <a:ext cx="74880" cy="48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1053"/>
              <p:cNvSpPr/>
              <p:nvPr/>
            </p:nvSpPr>
            <p:spPr>
              <a:xfrm>
                <a:off x="5371920" y="5085360"/>
                <a:ext cx="53280" cy="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WordArt 1054"/>
              <p:cNvSpPr txBox="1"/>
              <p:nvPr/>
            </p:nvSpPr>
            <p:spPr>
              <a:xfrm rot="3678600">
                <a:off x="5490000" y="5045760"/>
                <a:ext cx="82440" cy="9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44" name="WordArt 1055"/>
              <p:cNvSpPr txBox="1"/>
              <p:nvPr/>
            </p:nvSpPr>
            <p:spPr>
              <a:xfrm rot="3462600">
                <a:off x="5403960" y="4779000"/>
                <a:ext cx="67320" cy="9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DD0B-5991-4291-9181-7E179083F47B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590-4EAA-4926-83F1-9A64D34B74E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grpSp>
        <p:nvGrpSpPr>
          <p:cNvPr id="592" name="Group 4"/>
          <p:cNvGrpSpPr/>
          <p:nvPr/>
        </p:nvGrpSpPr>
        <p:grpSpPr>
          <a:xfrm>
            <a:off x="826920" y="255600"/>
            <a:ext cx="7290000" cy="6684840"/>
            <a:chOff x="826920" y="255600"/>
            <a:chExt cx="7290000" cy="6684840"/>
          </a:xfrm>
        </p:grpSpPr>
        <p:sp>
          <p:nvSpPr>
            <p:cNvPr id="593" name="AutoShape 5"/>
            <p:cNvSpPr/>
            <p:nvPr/>
          </p:nvSpPr>
          <p:spPr>
            <a:xfrm>
              <a:off x="826920" y="255600"/>
              <a:ext cx="7290000" cy="66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6"/>
            <p:cNvSpPr/>
            <p:nvPr/>
          </p:nvSpPr>
          <p:spPr>
            <a:xfrm>
              <a:off x="6990840" y="2195640"/>
              <a:ext cx="746280" cy="7491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7"/>
            <p:cNvSpPr/>
            <p:nvPr/>
          </p:nvSpPr>
          <p:spPr>
            <a:xfrm>
              <a:off x="2083680" y="1239120"/>
              <a:ext cx="4728240" cy="46454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8"/>
            <p:cNvSpPr/>
            <p:nvPr/>
          </p:nvSpPr>
          <p:spPr>
            <a:xfrm>
              <a:off x="1987560" y="1143000"/>
              <a:ext cx="4903200" cy="48348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9"/>
            <p:cNvSpPr/>
            <p:nvPr/>
          </p:nvSpPr>
          <p:spPr>
            <a:xfrm>
              <a:off x="3721680" y="2887560"/>
              <a:ext cx="1372320" cy="1400760"/>
            </a:xfrm>
            <a:prstGeom prst="ellipse">
              <a:avLst/>
            </a:prstGeom>
            <a:solidFill>
              <a:srgbClr val="ed55d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10"/>
            <p:cNvSpPr/>
            <p:nvPr/>
          </p:nvSpPr>
          <p:spPr>
            <a:xfrm>
              <a:off x="1502640" y="1291680"/>
              <a:ext cx="816840" cy="817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11"/>
            <p:cNvSpPr/>
            <p:nvPr/>
          </p:nvSpPr>
          <p:spPr>
            <a:xfrm>
              <a:off x="3349440" y="2504880"/>
              <a:ext cx="2180160" cy="2178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 flipV="1">
              <a:off x="4439520" y="4274640"/>
              <a:ext cx="0" cy="74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 flipH="1">
              <a:off x="4888440" y="1651680"/>
              <a:ext cx="1112400" cy="143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3443400" y="1073880"/>
              <a:ext cx="752760" cy="181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5"/>
            <p:cNvSpPr/>
            <p:nvPr/>
          </p:nvSpPr>
          <p:spPr>
            <a:xfrm>
              <a:off x="6330240" y="1121760"/>
              <a:ext cx="8157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16"/>
            <p:cNvSpPr/>
            <p:nvPr/>
          </p:nvSpPr>
          <p:spPr>
            <a:xfrm>
              <a:off x="2969640" y="255600"/>
              <a:ext cx="8157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7"/>
            <p:cNvSpPr/>
            <p:nvPr/>
          </p:nvSpPr>
          <p:spPr>
            <a:xfrm flipV="1">
              <a:off x="4439520" y="5841000"/>
              <a:ext cx="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8"/>
            <p:cNvSpPr/>
            <p:nvPr/>
          </p:nvSpPr>
          <p:spPr>
            <a:xfrm>
              <a:off x="7094880" y="2980800"/>
              <a:ext cx="1021680" cy="1090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847880" y="3525840"/>
              <a:ext cx="151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>
              <a:off x="5534280" y="3524400"/>
              <a:ext cx="1560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21"/>
            <p:cNvSpPr/>
            <p:nvPr/>
          </p:nvSpPr>
          <p:spPr>
            <a:xfrm>
              <a:off x="7231320" y="3303720"/>
              <a:ext cx="60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T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22"/>
            <p:cNvSpPr/>
            <p:nvPr/>
          </p:nvSpPr>
          <p:spPr>
            <a:xfrm>
              <a:off x="3991320" y="3225600"/>
              <a:ext cx="89100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500" spc="-1" strike="noStrike">
                  <a:solidFill>
                    <a:srgbClr val="ffff00"/>
                  </a:solidFill>
                  <a:latin typeface="Arial"/>
                </a:rPr>
                <a:t>DATA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500" spc="-1" strike="noStrike">
                  <a:solidFill>
                    <a:srgbClr val="ffff00"/>
                  </a:solidFill>
                  <a:latin typeface="Arial"/>
                </a:rPr>
                <a:t>centru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23"/>
            <p:cNvSpPr/>
            <p:nvPr/>
          </p:nvSpPr>
          <p:spPr>
            <a:xfrm>
              <a:off x="3103200" y="517320"/>
              <a:ext cx="6145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NH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4"/>
            <p:cNvSpPr/>
            <p:nvPr/>
          </p:nvSpPr>
          <p:spPr>
            <a:xfrm>
              <a:off x="6400440" y="1359000"/>
              <a:ext cx="6807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4058280" y="29160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26"/>
            <p:cNvSpPr/>
            <p:nvPr/>
          </p:nvSpPr>
          <p:spPr>
            <a:xfrm>
              <a:off x="4059000" y="453600"/>
              <a:ext cx="8175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LV-B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27"/>
            <p:cNvSpPr/>
            <p:nvPr/>
          </p:nvSpPr>
          <p:spPr>
            <a:xfrm>
              <a:off x="4352400" y="6318000"/>
              <a:ext cx="1364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8"/>
            <p:cNvSpPr/>
            <p:nvPr/>
          </p:nvSpPr>
          <p:spPr>
            <a:xfrm>
              <a:off x="2241360" y="5432040"/>
              <a:ext cx="174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9"/>
            <p:cNvSpPr/>
            <p:nvPr/>
          </p:nvSpPr>
          <p:spPr>
            <a:xfrm>
              <a:off x="5098680" y="313920"/>
              <a:ext cx="81684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30"/>
            <p:cNvSpPr/>
            <p:nvPr/>
          </p:nvSpPr>
          <p:spPr>
            <a:xfrm>
              <a:off x="5200920" y="604440"/>
              <a:ext cx="6127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5022360" y="2233080"/>
              <a:ext cx="1444320" cy="10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 flipV="1">
              <a:off x="5079240" y="3697200"/>
              <a:ext cx="2180160" cy="74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33"/>
            <p:cNvSpPr/>
            <p:nvPr/>
          </p:nvSpPr>
          <p:spPr>
            <a:xfrm>
              <a:off x="5073120" y="5977800"/>
              <a:ext cx="816840" cy="818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34"/>
            <p:cNvSpPr/>
            <p:nvPr/>
          </p:nvSpPr>
          <p:spPr>
            <a:xfrm>
              <a:off x="5073120" y="6113160"/>
              <a:ext cx="7812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Omg-Lo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5"/>
            <p:cNvSpPr/>
            <p:nvPr/>
          </p:nvSpPr>
          <p:spPr>
            <a:xfrm flipH="1">
              <a:off x="2487240" y="3998880"/>
              <a:ext cx="1382760" cy="10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36"/>
            <p:cNvSpPr/>
            <p:nvPr/>
          </p:nvSpPr>
          <p:spPr>
            <a:xfrm>
              <a:off x="2591280" y="4258440"/>
              <a:ext cx="816120" cy="8424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37"/>
            <p:cNvSpPr/>
            <p:nvPr/>
          </p:nvSpPr>
          <p:spPr>
            <a:xfrm>
              <a:off x="2681280" y="4413240"/>
              <a:ext cx="6667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App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C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8"/>
            <p:cNvSpPr/>
            <p:nvPr/>
          </p:nvSpPr>
          <p:spPr>
            <a:xfrm flipH="1" flipV="1">
              <a:off x="1910880" y="2642760"/>
              <a:ext cx="2131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9"/>
            <p:cNvSpPr/>
            <p:nvPr/>
          </p:nvSpPr>
          <p:spPr>
            <a:xfrm>
              <a:off x="6701040" y="4877280"/>
              <a:ext cx="747720" cy="816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40"/>
            <p:cNvSpPr/>
            <p:nvPr/>
          </p:nvSpPr>
          <p:spPr>
            <a:xfrm>
              <a:off x="4670640" y="4242240"/>
              <a:ext cx="68148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41"/>
            <p:cNvSpPr/>
            <p:nvPr/>
          </p:nvSpPr>
          <p:spPr>
            <a:xfrm>
              <a:off x="1078920" y="4437360"/>
              <a:ext cx="788040" cy="783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42"/>
            <p:cNvSpPr/>
            <p:nvPr/>
          </p:nvSpPr>
          <p:spPr>
            <a:xfrm>
              <a:off x="1091880" y="4705200"/>
              <a:ext cx="7106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V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43"/>
            <p:cNvSpPr/>
            <p:nvPr/>
          </p:nvSpPr>
          <p:spPr>
            <a:xfrm>
              <a:off x="6792480" y="5037120"/>
              <a:ext cx="611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Digi-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Oval 44"/>
            <p:cNvSpPr/>
            <p:nvPr/>
          </p:nvSpPr>
          <p:spPr>
            <a:xfrm>
              <a:off x="6025320" y="562644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45"/>
            <p:cNvSpPr/>
            <p:nvPr/>
          </p:nvSpPr>
          <p:spPr>
            <a:xfrm>
              <a:off x="6092640" y="5759280"/>
              <a:ext cx="679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LV-B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6"/>
            <p:cNvSpPr/>
            <p:nvPr/>
          </p:nvSpPr>
          <p:spPr>
            <a:xfrm>
              <a:off x="4466520" y="1108440"/>
              <a:ext cx="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Oval 47"/>
            <p:cNvSpPr/>
            <p:nvPr/>
          </p:nvSpPr>
          <p:spPr>
            <a:xfrm>
              <a:off x="5902920" y="3530520"/>
              <a:ext cx="817560" cy="817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48"/>
            <p:cNvSpPr/>
            <p:nvPr/>
          </p:nvSpPr>
          <p:spPr>
            <a:xfrm>
              <a:off x="5837400" y="3666960"/>
              <a:ext cx="9504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Appl 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49"/>
            <p:cNvSpPr/>
            <p:nvPr/>
          </p:nvSpPr>
          <p:spPr>
            <a:xfrm>
              <a:off x="7184520" y="4146120"/>
              <a:ext cx="816840" cy="817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50"/>
            <p:cNvSpPr/>
            <p:nvPr/>
          </p:nvSpPr>
          <p:spPr>
            <a:xfrm>
              <a:off x="7253640" y="4419360"/>
              <a:ext cx="7822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1"/>
            <p:cNvSpPr/>
            <p:nvPr/>
          </p:nvSpPr>
          <p:spPr>
            <a:xfrm flipH="1">
              <a:off x="4623480" y="1114200"/>
              <a:ext cx="772560" cy="180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52"/>
            <p:cNvSpPr/>
            <p:nvPr/>
          </p:nvSpPr>
          <p:spPr>
            <a:xfrm>
              <a:off x="4655880" y="144468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3"/>
            <p:cNvSpPr/>
            <p:nvPr/>
          </p:nvSpPr>
          <p:spPr>
            <a:xfrm>
              <a:off x="4730760" y="1590480"/>
              <a:ext cx="6667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Appl-</a:t>
              </a: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Oval 54"/>
            <p:cNvSpPr/>
            <p:nvPr/>
          </p:nvSpPr>
          <p:spPr>
            <a:xfrm>
              <a:off x="2226240" y="5670000"/>
              <a:ext cx="81684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55"/>
            <p:cNvSpPr/>
            <p:nvPr/>
          </p:nvSpPr>
          <p:spPr>
            <a:xfrm>
              <a:off x="2144520" y="5970240"/>
              <a:ext cx="819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L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56"/>
            <p:cNvSpPr/>
            <p:nvPr/>
          </p:nvSpPr>
          <p:spPr>
            <a:xfrm flipH="1" flipV="1">
              <a:off x="5010480" y="3901320"/>
              <a:ext cx="1770840" cy="115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Oval 57"/>
            <p:cNvSpPr/>
            <p:nvPr/>
          </p:nvSpPr>
          <p:spPr>
            <a:xfrm>
              <a:off x="3308400" y="1515240"/>
              <a:ext cx="817560" cy="817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58"/>
            <p:cNvSpPr/>
            <p:nvPr/>
          </p:nvSpPr>
          <p:spPr>
            <a:xfrm>
              <a:off x="3442680" y="1682640"/>
              <a:ext cx="4629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Appl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NH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59"/>
            <p:cNvSpPr/>
            <p:nvPr/>
          </p:nvSpPr>
          <p:spPr>
            <a:xfrm>
              <a:off x="6991560" y="2320920"/>
              <a:ext cx="8175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LV-WKP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60"/>
            <p:cNvSpPr/>
            <p:nvPr/>
          </p:nvSpPr>
          <p:spPr>
            <a:xfrm>
              <a:off x="851040" y="3641400"/>
              <a:ext cx="1020960" cy="1090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61"/>
            <p:cNvSpPr/>
            <p:nvPr/>
          </p:nvSpPr>
          <p:spPr>
            <a:xfrm>
              <a:off x="851040" y="4040280"/>
              <a:ext cx="1045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DK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2"/>
            <p:cNvSpPr/>
            <p:nvPr/>
          </p:nvSpPr>
          <p:spPr>
            <a:xfrm flipH="1" flipV="1">
              <a:off x="4874760" y="4105440"/>
              <a:ext cx="1294200" cy="163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63"/>
            <p:cNvSpPr/>
            <p:nvPr/>
          </p:nvSpPr>
          <p:spPr>
            <a:xfrm>
              <a:off x="4700880" y="4862160"/>
              <a:ext cx="816480" cy="818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4"/>
            <p:cNvSpPr/>
            <p:nvPr/>
          </p:nvSpPr>
          <p:spPr>
            <a:xfrm>
              <a:off x="4632480" y="4998960"/>
              <a:ext cx="955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Omg-Lo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65"/>
            <p:cNvSpPr/>
            <p:nvPr/>
          </p:nvSpPr>
          <p:spPr>
            <a:xfrm flipV="1">
              <a:off x="1868760" y="4546440"/>
              <a:ext cx="310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66"/>
            <p:cNvSpPr/>
            <p:nvPr/>
          </p:nvSpPr>
          <p:spPr>
            <a:xfrm flipV="1">
              <a:off x="2747520" y="5440320"/>
              <a:ext cx="205560" cy="23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67"/>
            <p:cNvSpPr/>
            <p:nvPr/>
          </p:nvSpPr>
          <p:spPr>
            <a:xfrm flipV="1">
              <a:off x="3325320" y="5755680"/>
              <a:ext cx="87120" cy="22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68"/>
            <p:cNvSpPr/>
            <p:nvPr/>
          </p:nvSpPr>
          <p:spPr>
            <a:xfrm flipV="1">
              <a:off x="1858320" y="3901320"/>
              <a:ext cx="150372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1094040" y="209484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70"/>
            <p:cNvSpPr/>
            <p:nvPr/>
          </p:nvSpPr>
          <p:spPr>
            <a:xfrm>
              <a:off x="1077840" y="2320920"/>
              <a:ext cx="6289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GBA-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71"/>
            <p:cNvSpPr/>
            <p:nvPr/>
          </p:nvSpPr>
          <p:spPr>
            <a:xfrm>
              <a:off x="1619640" y="1564920"/>
              <a:ext cx="4003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R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2"/>
            <p:cNvSpPr/>
            <p:nvPr/>
          </p:nvSpPr>
          <p:spPr>
            <a:xfrm>
              <a:off x="2241360" y="1946160"/>
              <a:ext cx="24768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73"/>
            <p:cNvSpPr/>
            <p:nvPr/>
          </p:nvSpPr>
          <p:spPr>
            <a:xfrm flipH="1" flipV="1">
              <a:off x="2241360" y="2408760"/>
              <a:ext cx="1532880" cy="89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Oval 74"/>
            <p:cNvSpPr/>
            <p:nvPr/>
          </p:nvSpPr>
          <p:spPr>
            <a:xfrm>
              <a:off x="2355480" y="2333520"/>
              <a:ext cx="81648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75"/>
            <p:cNvSpPr/>
            <p:nvPr/>
          </p:nvSpPr>
          <p:spPr>
            <a:xfrm>
              <a:off x="2420640" y="2464920"/>
              <a:ext cx="693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1000" spc="-1" strike="noStrike">
                  <a:solidFill>
                    <a:srgbClr val="ff0000"/>
                  </a:solidFill>
                  <a:latin typeface="Times New Roman"/>
                </a:rPr>
                <a:t>BZS-K</a:t>
              </a:r>
              <a:r>
                <a:rPr b="0" lang="nl-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76"/>
            <p:cNvSpPr/>
            <p:nvPr/>
          </p:nvSpPr>
          <p:spPr>
            <a:xfrm>
              <a:off x="1987560" y="411840"/>
              <a:ext cx="1020960" cy="108972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77"/>
            <p:cNvSpPr/>
            <p:nvPr/>
          </p:nvSpPr>
          <p:spPr>
            <a:xfrm>
              <a:off x="1989000" y="796680"/>
              <a:ext cx="1045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GM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Oval 78"/>
            <p:cNvSpPr/>
            <p:nvPr/>
          </p:nvSpPr>
          <p:spPr>
            <a:xfrm>
              <a:off x="4040280" y="1291680"/>
              <a:ext cx="816840" cy="817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79"/>
            <p:cNvSpPr/>
            <p:nvPr/>
          </p:nvSpPr>
          <p:spPr>
            <a:xfrm>
              <a:off x="4110120" y="1564920"/>
              <a:ext cx="7804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80"/>
            <p:cNvSpPr/>
            <p:nvPr/>
          </p:nvSpPr>
          <p:spPr>
            <a:xfrm>
              <a:off x="826920" y="2982240"/>
              <a:ext cx="1020960" cy="1090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81"/>
            <p:cNvSpPr/>
            <p:nvPr/>
          </p:nvSpPr>
          <p:spPr>
            <a:xfrm>
              <a:off x="938520" y="3290760"/>
              <a:ext cx="659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0000"/>
                  </a:solidFill>
                  <a:latin typeface="Arial"/>
                </a:rPr>
                <a:t>G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2"/>
            <p:cNvSpPr/>
            <p:nvPr/>
          </p:nvSpPr>
          <p:spPr>
            <a:xfrm>
              <a:off x="2777400" y="1431360"/>
              <a:ext cx="965520" cy="128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83"/>
            <p:cNvSpPr/>
            <p:nvPr/>
          </p:nvSpPr>
          <p:spPr>
            <a:xfrm>
              <a:off x="5799960" y="4191120"/>
              <a:ext cx="749160" cy="74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4"/>
            <p:cNvSpPr/>
            <p:nvPr/>
          </p:nvSpPr>
          <p:spPr>
            <a:xfrm>
              <a:off x="5869080" y="4327560"/>
              <a:ext cx="6364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ff0000"/>
                  </a:solidFill>
                  <a:latin typeface="Arial"/>
                </a:rPr>
                <a:t>Digi-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5"/>
            <p:cNvSpPr/>
            <p:nvPr/>
          </p:nvSpPr>
          <p:spPr>
            <a:xfrm flipH="1">
              <a:off x="5074920" y="2709000"/>
              <a:ext cx="1951200" cy="67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86"/>
            <p:cNvSpPr/>
            <p:nvPr/>
          </p:nvSpPr>
          <p:spPr>
            <a:xfrm>
              <a:off x="5214960" y="4559040"/>
              <a:ext cx="817560" cy="817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7"/>
            <p:cNvSpPr/>
            <p:nvPr/>
          </p:nvSpPr>
          <p:spPr>
            <a:xfrm>
              <a:off x="5317920" y="4832280"/>
              <a:ext cx="6109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8"/>
            <p:cNvSpPr/>
            <p:nvPr/>
          </p:nvSpPr>
          <p:spPr>
            <a:xfrm>
              <a:off x="5581440" y="2138400"/>
              <a:ext cx="817560" cy="81684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89"/>
            <p:cNvSpPr/>
            <p:nvPr/>
          </p:nvSpPr>
          <p:spPr>
            <a:xfrm>
              <a:off x="5581440" y="2410920"/>
              <a:ext cx="819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W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90"/>
            <p:cNvSpPr/>
            <p:nvPr/>
          </p:nvSpPr>
          <p:spPr>
            <a:xfrm>
              <a:off x="3299040" y="6122160"/>
              <a:ext cx="8175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91"/>
            <p:cNvSpPr/>
            <p:nvPr/>
          </p:nvSpPr>
          <p:spPr>
            <a:xfrm>
              <a:off x="3370680" y="6396120"/>
              <a:ext cx="7804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92"/>
            <p:cNvSpPr/>
            <p:nvPr/>
          </p:nvSpPr>
          <p:spPr>
            <a:xfrm flipV="1">
              <a:off x="3789360" y="4252680"/>
              <a:ext cx="361800" cy="186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Oval 93"/>
            <p:cNvSpPr/>
            <p:nvPr/>
          </p:nvSpPr>
          <p:spPr>
            <a:xfrm>
              <a:off x="3454560" y="4871160"/>
              <a:ext cx="81684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94"/>
            <p:cNvSpPr/>
            <p:nvPr/>
          </p:nvSpPr>
          <p:spPr>
            <a:xfrm>
              <a:off x="3386160" y="5006880"/>
              <a:ext cx="953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App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95"/>
            <p:cNvSpPr/>
            <p:nvPr/>
          </p:nvSpPr>
          <p:spPr>
            <a:xfrm>
              <a:off x="4022280" y="5021280"/>
              <a:ext cx="81684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96"/>
            <p:cNvSpPr/>
            <p:nvPr/>
          </p:nvSpPr>
          <p:spPr>
            <a:xfrm>
              <a:off x="4008600" y="5173560"/>
              <a:ext cx="7776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WO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97"/>
            <p:cNvSpPr/>
            <p:nvPr/>
          </p:nvSpPr>
          <p:spPr>
            <a:xfrm>
              <a:off x="2762280" y="5943240"/>
              <a:ext cx="815760" cy="81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98"/>
            <p:cNvSpPr/>
            <p:nvPr/>
          </p:nvSpPr>
          <p:spPr>
            <a:xfrm>
              <a:off x="2792520" y="6197040"/>
              <a:ext cx="6919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B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Oval 99"/>
            <p:cNvSpPr/>
            <p:nvPr/>
          </p:nvSpPr>
          <p:spPr>
            <a:xfrm>
              <a:off x="4047480" y="6122160"/>
              <a:ext cx="816120" cy="818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100"/>
            <p:cNvSpPr/>
            <p:nvPr/>
          </p:nvSpPr>
          <p:spPr>
            <a:xfrm>
              <a:off x="4121280" y="6243480"/>
              <a:ext cx="680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LV-WO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01"/>
            <p:cNvSpPr/>
            <p:nvPr/>
          </p:nvSpPr>
          <p:spPr>
            <a:xfrm flipH="1">
              <a:off x="6291000" y="1809360"/>
              <a:ext cx="16344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Group 102"/>
            <p:cNvGrpSpPr/>
            <p:nvPr/>
          </p:nvGrpSpPr>
          <p:grpSpPr>
            <a:xfrm>
              <a:off x="5200200" y="1671480"/>
              <a:ext cx="817560" cy="818280"/>
              <a:chOff x="5200200" y="1671480"/>
              <a:chExt cx="817560" cy="818280"/>
            </a:xfrm>
          </p:grpSpPr>
          <p:sp>
            <p:nvSpPr>
              <p:cNvPr id="691" name="Oval 103"/>
              <p:cNvSpPr/>
              <p:nvPr/>
            </p:nvSpPr>
            <p:spPr>
              <a:xfrm>
                <a:off x="5200200" y="1671480"/>
                <a:ext cx="817560" cy="8182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04"/>
              <p:cNvSpPr/>
              <p:nvPr/>
            </p:nvSpPr>
            <p:spPr>
              <a:xfrm>
                <a:off x="5275080" y="1816920"/>
                <a:ext cx="667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000" spc="-1" strike="noStrike">
                    <a:solidFill>
                      <a:srgbClr val="ff0000"/>
                    </a:solidFill>
                    <a:latin typeface="Arial"/>
                  </a:rPr>
                  <a:t>Appl-</a:t>
                </a:r>
                <a:r>
                  <a:rPr b="1" lang="nl-NL" sz="1200" spc="-1" strike="noStrike">
                    <a:solidFill>
                      <a:srgbClr val="ff0000"/>
                    </a:solidFill>
                    <a:latin typeface="Arial"/>
                  </a:rPr>
                  <a:t>B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105"/>
            <p:cNvGrpSpPr/>
            <p:nvPr/>
          </p:nvGrpSpPr>
          <p:grpSpPr>
            <a:xfrm>
              <a:off x="5797080" y="2648880"/>
              <a:ext cx="817920" cy="816480"/>
              <a:chOff x="5797080" y="2648880"/>
              <a:chExt cx="817920" cy="816480"/>
            </a:xfrm>
          </p:grpSpPr>
          <p:sp>
            <p:nvSpPr>
              <p:cNvPr id="694" name="Oval 106"/>
              <p:cNvSpPr/>
              <p:nvPr/>
            </p:nvSpPr>
            <p:spPr>
              <a:xfrm>
                <a:off x="5797080" y="2648880"/>
                <a:ext cx="816120" cy="816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Text Box 107"/>
              <p:cNvSpPr/>
              <p:nvPr/>
            </p:nvSpPr>
            <p:spPr>
              <a:xfrm>
                <a:off x="5797080" y="2920320"/>
                <a:ext cx="817920" cy="31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ff0000"/>
                    </a:solidFill>
                    <a:latin typeface="Arial"/>
                  </a:rPr>
                  <a:t>WKP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Oval 108"/>
            <p:cNvSpPr/>
            <p:nvPr/>
          </p:nvSpPr>
          <p:spPr>
            <a:xfrm>
              <a:off x="1350720" y="4916160"/>
              <a:ext cx="788400" cy="783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09"/>
            <p:cNvSpPr/>
            <p:nvPr/>
          </p:nvSpPr>
          <p:spPr>
            <a:xfrm>
              <a:off x="1338120" y="5154480"/>
              <a:ext cx="7095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EK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110"/>
            <p:cNvSpPr/>
            <p:nvPr/>
          </p:nvSpPr>
          <p:spPr>
            <a:xfrm>
              <a:off x="1721880" y="5257080"/>
              <a:ext cx="788040" cy="783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111"/>
            <p:cNvSpPr/>
            <p:nvPr/>
          </p:nvSpPr>
          <p:spPr>
            <a:xfrm>
              <a:off x="1764000" y="5510160"/>
              <a:ext cx="7106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0000"/>
                  </a:solidFill>
                  <a:latin typeface="Arial"/>
                </a:rPr>
                <a:t>E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12"/>
            <p:cNvSpPr/>
            <p:nvPr/>
          </p:nvSpPr>
          <p:spPr>
            <a:xfrm flipV="1">
              <a:off x="2059560" y="4834800"/>
              <a:ext cx="309240" cy="1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13"/>
            <p:cNvSpPr/>
            <p:nvPr/>
          </p:nvSpPr>
          <p:spPr>
            <a:xfrm flipV="1">
              <a:off x="2361600" y="5106600"/>
              <a:ext cx="214560" cy="20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Text Box 114"/>
          <p:cNvSpPr/>
          <p:nvPr/>
        </p:nvSpPr>
        <p:spPr>
          <a:xfrm>
            <a:off x="6476760" y="646128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Arial Unicode MS"/>
              </a:rPr>
              <a:t>Onze Oplo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14C0-74FE-49F0-94C2-F7571A87E0A2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E2B-F873-42E0-AE45-0B11E452215E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7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6"/>
          <p:cNvSpPr/>
          <p:nvPr/>
        </p:nvSpPr>
        <p:spPr>
          <a:xfrm rot="16200000">
            <a:off x="-997920" y="3740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 Unicode MS"/>
              </a:rPr>
              <a:t>Gegevens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4E0-7DB0-4F07-8AB3-BE0C7252665B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8A19-A7C7-4573-8498-21F3D0C22B16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verschillende objectdefinities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AG: pand en verblijfsobject (bovenaanzicht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RT: bebouwing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BKN: hoofdgebouw en bijgebouw op maaiveld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stemmingsplan: bebouwing en gebouw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WOZ: WOZ-deelobject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ijdelijke aanduiding voor datum 1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8AC-BF82-43E4-92A9-679F2419B0C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ijdelijke aanduiding voor voettekst 2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ijdelijke aanduiding voor dianummer 3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B941-E890-4D09-9199-F85039087EB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284480" y="1295280"/>
            <a:ext cx="68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lgemeen vraagscenario: klant wil activiteit in gemeente ontplooie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3429000" y="1981080"/>
            <a:ext cx="914400" cy="60984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e bent 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AutoShape 4"/>
          <p:cNvCxnSpPr>
            <a:stCxn id="719" idx="3"/>
            <a:endCxn id="721" idx="1"/>
          </p:cNvCxnSpPr>
          <p:nvPr/>
        </p:nvCxnSpPr>
        <p:spPr>
          <a:xfrm flipV="1">
            <a:off x="4343040" y="1828440"/>
            <a:ext cx="22932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AutoShape 5"/>
          <p:cNvSpPr/>
          <p:nvPr/>
        </p:nvSpPr>
        <p:spPr>
          <a:xfrm>
            <a:off x="4572000" y="1676520"/>
            <a:ext cx="914400" cy="304560"/>
          </a:xfrm>
          <a:prstGeom prst="flowChartTerminator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g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5410080" y="2057400"/>
            <a:ext cx="914400" cy="609480"/>
          </a:xfrm>
          <a:prstGeom prst="flowChartDocument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5638680" y="2438280"/>
            <a:ext cx="914400" cy="609840"/>
          </a:xfrm>
          <a:prstGeom prst="flowChartDocument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3429000" y="3124080"/>
            <a:ext cx="914400" cy="609840"/>
          </a:xfrm>
          <a:prstGeom prst="flowChartDecision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5" name="AutoShape 9"/>
          <p:cNvCxnSpPr>
            <a:stCxn id="719" idx="2"/>
            <a:endCxn id="724" idx="0"/>
          </p:cNvCxnSpPr>
          <p:nvPr/>
        </p:nvCxnSpPr>
        <p:spPr>
          <a:xfrm>
            <a:off x="3885840" y="25905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AutoShape 10"/>
          <p:cNvSpPr/>
          <p:nvPr/>
        </p:nvSpPr>
        <p:spPr>
          <a:xfrm>
            <a:off x="2286000" y="3124080"/>
            <a:ext cx="914400" cy="60984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4572000" y="3124080"/>
            <a:ext cx="914400" cy="60984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AutoShape 12"/>
          <p:cNvCxnSpPr>
            <a:stCxn id="726" idx="3"/>
            <a:endCxn id="724" idx="1"/>
          </p:cNvCxnSpPr>
          <p:nvPr/>
        </p:nvCxnSpPr>
        <p:spPr>
          <a:xfrm>
            <a:off x="320004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9" name="AutoShape 13"/>
          <p:cNvCxnSpPr>
            <a:stCxn id="724" idx="3"/>
            <a:endCxn id="727" idx="1"/>
          </p:cNvCxnSpPr>
          <p:nvPr/>
        </p:nvCxnSpPr>
        <p:spPr>
          <a:xfrm>
            <a:off x="434304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AutoShape 14"/>
          <p:cNvSpPr/>
          <p:nvPr/>
        </p:nvSpPr>
        <p:spPr>
          <a:xfrm>
            <a:off x="4572000" y="3962520"/>
            <a:ext cx="914400" cy="60948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15"/>
          <p:cNvSpPr/>
          <p:nvPr/>
        </p:nvSpPr>
        <p:spPr>
          <a:xfrm>
            <a:off x="2286000" y="3962520"/>
            <a:ext cx="914400" cy="60948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ome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3127320" y="3962520"/>
            <a:ext cx="910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midde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VBR-View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17"/>
          <p:cNvCxnSpPr>
            <a:stCxn id="726" idx="2"/>
            <a:endCxn id="731" idx="0"/>
          </p:cNvCxnSpPr>
          <p:nvPr/>
        </p:nvCxnSpPr>
        <p:spPr>
          <a:xfrm>
            <a:off x="2742840" y="3733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AutoShape 18"/>
          <p:cNvCxnSpPr>
            <a:stCxn id="727" idx="2"/>
            <a:endCxn id="730" idx="0"/>
          </p:cNvCxnSpPr>
          <p:nvPr/>
        </p:nvCxnSpPr>
        <p:spPr>
          <a:xfrm>
            <a:off x="5028840" y="3733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5" name="Text Box 19"/>
          <p:cNvSpPr/>
          <p:nvPr/>
        </p:nvSpPr>
        <p:spPr>
          <a:xfrm>
            <a:off x="6249960" y="20574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antwoor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20"/>
          <p:cNvSpPr/>
          <p:nvPr/>
        </p:nvSpPr>
        <p:spPr>
          <a:xfrm>
            <a:off x="2286000" y="4724280"/>
            <a:ext cx="914400" cy="30492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21"/>
          <p:cNvSpPr/>
          <p:nvPr/>
        </p:nvSpPr>
        <p:spPr>
          <a:xfrm>
            <a:off x="4572000" y="4724280"/>
            <a:ext cx="914400" cy="30492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5412240" y="47242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optione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3126240" y="47242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(optione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AutoShape 24"/>
          <p:cNvCxnSpPr>
            <a:stCxn id="731" idx="2"/>
            <a:endCxn id="736" idx="0"/>
          </p:cNvCxnSpPr>
          <p:nvPr/>
        </p:nvCxnSpPr>
        <p:spPr>
          <a:xfrm>
            <a:off x="27428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25"/>
          <p:cNvCxnSpPr>
            <a:stCxn id="730" idx="2"/>
            <a:endCxn id="737" idx="0"/>
          </p:cNvCxnSpPr>
          <p:nvPr/>
        </p:nvCxnSpPr>
        <p:spPr>
          <a:xfrm>
            <a:off x="50288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2" name="AutoShape 26"/>
          <p:cNvSpPr/>
          <p:nvPr/>
        </p:nvSpPr>
        <p:spPr>
          <a:xfrm>
            <a:off x="1523880" y="167652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5"/>
                </a:lnTo>
                <a:cubicBezTo>
                  <a:pt x="10800" y="10165"/>
                  <a:pt x="5400" y="11065"/>
                  <a:pt x="0" y="11065"/>
                </a:cubicBezTo>
                <a:cubicBezTo>
                  <a:pt x="5400" y="11065"/>
                  <a:pt x="10800" y="11965"/>
                  <a:pt x="10800" y="128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225360" y="1905120"/>
            <a:ext cx="133884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 bent die e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 d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uthenti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astgest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28"/>
          <p:cNvSpPr/>
          <p:nvPr/>
        </p:nvSpPr>
        <p:spPr>
          <a:xfrm>
            <a:off x="1447920" y="312408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4640 h 2286000"/>
              <a:gd name="textAreaBottom" fmla="*/ 22413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304"/>
                </a:lnTo>
                <a:cubicBezTo>
                  <a:pt x="10800" y="9979"/>
                  <a:pt x="5400" y="10654"/>
                  <a:pt x="0" y="10654"/>
                </a:cubicBezTo>
                <a:cubicBezTo>
                  <a:pt x="5400" y="10654"/>
                  <a:pt x="10800" y="11329"/>
                  <a:pt x="10800" y="12004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9"/>
          <p:cNvSpPr/>
          <p:nvPr/>
        </p:nvSpPr>
        <p:spPr>
          <a:xfrm>
            <a:off x="3429000" y="5181480"/>
            <a:ext cx="914400" cy="381240"/>
          </a:xfrm>
          <a:prstGeom prst="flowChartProcess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D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D-vl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AutoShape 30"/>
          <p:cNvCxnSpPr>
            <a:stCxn id="736" idx="2"/>
            <a:endCxn id="745" idx="1"/>
          </p:cNvCxnSpPr>
          <p:nvPr/>
        </p:nvCxnSpPr>
        <p:spPr>
          <a:xfrm flipH="1" rot="16200000">
            <a:off x="2913480" y="4857480"/>
            <a:ext cx="3438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AutoShape 31"/>
          <p:cNvCxnSpPr>
            <a:stCxn id="737" idx="2"/>
            <a:endCxn id="745" idx="3"/>
          </p:cNvCxnSpPr>
          <p:nvPr/>
        </p:nvCxnSpPr>
        <p:spPr>
          <a:xfrm rot="5400000">
            <a:off x="4514040" y="4857480"/>
            <a:ext cx="34380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8" name="AutoShape 32"/>
          <p:cNvSpPr/>
          <p:nvPr/>
        </p:nvSpPr>
        <p:spPr>
          <a:xfrm>
            <a:off x="3429000" y="5715000"/>
            <a:ext cx="914400" cy="609480"/>
          </a:xfrm>
          <a:prstGeom prst="flowChartDecision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g d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AutoShape 33"/>
          <p:cNvCxnSpPr>
            <a:stCxn id="745" idx="2"/>
            <a:endCxn id="748" idx="0"/>
          </p:cNvCxnSpPr>
          <p:nvPr/>
        </p:nvCxnSpPr>
        <p:spPr>
          <a:xfrm>
            <a:off x="3885840" y="5562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AutoShape 34"/>
          <p:cNvSpPr/>
          <p:nvPr/>
        </p:nvSpPr>
        <p:spPr>
          <a:xfrm>
            <a:off x="4572000" y="5562720"/>
            <a:ext cx="914400" cy="30456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st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35"/>
          <p:cNvSpPr/>
          <p:nvPr/>
        </p:nvSpPr>
        <p:spPr>
          <a:xfrm>
            <a:off x="5638680" y="5562720"/>
            <a:ext cx="914400" cy="30456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K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36"/>
          <p:cNvSpPr/>
          <p:nvPr/>
        </p:nvSpPr>
        <p:spPr>
          <a:xfrm>
            <a:off x="6705720" y="5562720"/>
            <a:ext cx="1028520" cy="304560"/>
          </a:xfrm>
          <a:prstGeom prst="flowChartProcess">
            <a:avLst/>
          </a:prstGeom>
          <a:solidFill>
            <a:srgbClr val="f4f84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unni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3" name="AutoShape 37"/>
          <p:cNvCxnSpPr>
            <a:stCxn id="748" idx="3"/>
            <a:endCxn id="750" idx="1"/>
          </p:cNvCxnSpPr>
          <p:nvPr/>
        </p:nvCxnSpPr>
        <p:spPr>
          <a:xfrm flipV="1">
            <a:off x="4343040" y="5714280"/>
            <a:ext cx="2293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AutoShape 38"/>
          <p:cNvCxnSpPr>
            <a:stCxn id="750" idx="3"/>
            <a:endCxn id="751" idx="1"/>
          </p:cNvCxnSpPr>
          <p:nvPr/>
        </p:nvCxnSpPr>
        <p:spPr>
          <a:xfrm>
            <a:off x="5486040" y="5714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AutoShape 39"/>
          <p:cNvCxnSpPr>
            <a:stCxn id="751" idx="3"/>
            <a:endCxn id="752" idx="1"/>
          </p:cNvCxnSpPr>
          <p:nvPr/>
        </p:nvCxnSpPr>
        <p:spPr>
          <a:xfrm>
            <a:off x="6553080" y="571464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6" name="AutoShape 40"/>
          <p:cNvSpPr/>
          <p:nvPr/>
        </p:nvSpPr>
        <p:spPr>
          <a:xfrm>
            <a:off x="4876920" y="6172200"/>
            <a:ext cx="914400" cy="380880"/>
          </a:xfrm>
          <a:prstGeom prst="flowChartProcess">
            <a:avLst/>
          </a:prstGeom>
          <a:solidFill>
            <a:srgbClr val="f4f8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k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AutoShape 41"/>
          <p:cNvCxnSpPr>
            <a:stCxn id="752" idx="3"/>
            <a:endCxn id="756" idx="0"/>
          </p:cNvCxnSpPr>
          <p:nvPr/>
        </p:nvCxnSpPr>
        <p:spPr>
          <a:xfrm flipH="1">
            <a:off x="5333400" y="5715000"/>
            <a:ext cx="2400840" cy="457920"/>
          </a:xfrm>
          <a:prstGeom prst="bentConnector4">
            <a:avLst>
              <a:gd name="adj1" fmla="val -9523"/>
              <a:gd name="adj2" fmla="val 666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8" name="Text Box 42"/>
          <p:cNvSpPr/>
          <p:nvPr/>
        </p:nvSpPr>
        <p:spPr>
          <a:xfrm>
            <a:off x="304200" y="3809880"/>
            <a:ext cx="10555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locati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uthenti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astgest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43"/>
          <p:cNvSpPr/>
          <p:nvPr/>
        </p:nvSpPr>
        <p:spPr>
          <a:xfrm>
            <a:off x="1447920" y="556272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0"/>
                </a:lnTo>
                <a:cubicBezTo>
                  <a:pt x="10800" y="10080"/>
                  <a:pt x="5400" y="10980"/>
                  <a:pt x="0" y="10980"/>
                </a:cubicBezTo>
                <a:cubicBezTo>
                  <a:pt x="5400" y="10980"/>
                  <a:pt x="10800" y="11880"/>
                  <a:pt x="10800" y="1278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5326200" y="6108840"/>
            <a:ext cx="40165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(U mag ni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U mag wel en moet die en die vergunning aanvr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U mag wel en u moet eerst die en die procedures volge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226080" y="5715000"/>
            <a:ext cx="1421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klant word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lgens wettel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plichte nor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an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61"/>
          <p:cNvSpPr/>
          <p:nvPr/>
        </p:nvSpPr>
        <p:spPr>
          <a:xfrm>
            <a:off x="633240" y="47577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62"/>
          <p:cNvSpPr/>
          <p:nvPr/>
        </p:nvSpPr>
        <p:spPr>
          <a:xfrm>
            <a:off x="998640" y="270000"/>
            <a:ext cx="59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Arial"/>
              </a:rPr>
              <a:t>Wie-wat-waar-mag-dat-vraa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12E-1D1F-4B6C-9058-D927EE1D8EC8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368B-A762-4FB3-B9EE-8C7516A5D82D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Belangrijkste probleem dienstverlening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uderwetse GBA-applicatie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niet op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ntake dienstverleningsprocessen leidt tot overtyp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niet geschikt voor functioneren stelsel van BR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vertraging mGBA is grootste bottelnek verbetering dienstverlening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D625-C070-4B5C-BC6F-566984161007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BD8A-8937-46DA-A49F-E2C8E86CD852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Memorie van toelichting WRO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raadpleeg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toegankelijk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ees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handhaaf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vergelijkbaarhei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rechtszekerheid/rechtsgelijkheid (lees betrouwbaarheid)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33B8-A3CC-4270-BCCD-A487E27747E7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5FEB-113E-4C01-8093-B097A94CD0FB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85720" y="12092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9999"/>
                </a:solidFill>
                <a:latin typeface="Arial"/>
              </a:rPr>
              <a:t>2 vastgestelde bestemmingsplannen op 1 plek</a:t>
            </a: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1"/>
          <a:stretch/>
        </p:blipFill>
        <p:spPr>
          <a:xfrm>
            <a:off x="1330200" y="1849320"/>
            <a:ext cx="6678720" cy="500868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5"/>
          <p:cNvSpPr/>
          <p:nvPr/>
        </p:nvSpPr>
        <p:spPr>
          <a:xfrm>
            <a:off x="6343560" y="3244680"/>
            <a:ext cx="1660680" cy="1430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2871000" y="61214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 Unicode MS"/>
              </a:rPr>
              <a:t>Niet eenduidig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2612880" y="2975040"/>
            <a:ext cx="841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9486-792A-414C-B741-34E150D00EA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CF97-8DDA-4E79-A94A-E0D423FA828E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96960" y="135360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Objectgericht,... of toch Laaggericht?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787" name="Picture 3" descr=""/>
          <p:cNvPicPr/>
          <p:nvPr/>
        </p:nvPicPr>
        <p:blipFill>
          <a:blip r:embed="rId1"/>
          <a:stretch/>
        </p:blipFill>
        <p:spPr>
          <a:xfrm>
            <a:off x="1600200" y="2206800"/>
            <a:ext cx="7010280" cy="465120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4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789" name="Freeform 5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6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7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8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9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10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Freeform 11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Freeform 12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13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17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2" name="WordArt 18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5EA8-44F7-4AA9-B71A-02C7A744CFE5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76F-27F4-4076-9782-7280BC2F45FD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99840" y="135360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eveel lagen over elkaar?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1641600" y="2093760"/>
            <a:ext cx="6738840" cy="47642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5"/>
          <p:cNvSpPr/>
          <p:nvPr/>
        </p:nvSpPr>
        <p:spPr>
          <a:xfrm>
            <a:off x="1308960" y="6338880"/>
            <a:ext cx="53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00"/>
                </a:solidFill>
                <a:latin typeface="Arial Unicode MS"/>
              </a:rPr>
              <a:t>consistente en leesbare reg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BCC-B88F-46D5-8FFF-F22D45D45D1B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94C5-2016-40F2-8457-81040A12A4C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25240" y="1337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Zoeken op (adres)punt,</a:t>
            </a:r>
            <a:br>
              <a:rPr sz="2800"/>
            </a:b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Adres buiten plan, pand binnen plan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tretch/>
        </p:blipFill>
        <p:spPr>
          <a:xfrm>
            <a:off x="1538280" y="2195640"/>
            <a:ext cx="6232680" cy="4662360"/>
          </a:xfrm>
          <a:prstGeom prst="rect">
            <a:avLst/>
          </a:prstGeom>
          <a:ln w="0">
            <a:noFill/>
          </a:ln>
        </p:spPr>
      </p:pic>
      <p:sp>
        <p:nvSpPr>
          <p:cNvPr id="817" name="Oval 5"/>
          <p:cNvSpPr/>
          <p:nvPr/>
        </p:nvSpPr>
        <p:spPr>
          <a:xfrm>
            <a:off x="5207040" y="4557600"/>
            <a:ext cx="6890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ijdelijke aanduiding voor datum 2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2DFC-67C3-4073-A9CC-31982748FF3D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ijdelijke aanduiding voor voettekst 3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ijdelijke aanduiding voor dianummer 4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0A0-CDDA-4ECC-B603-4299C75B299D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0" y="109224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4054320" y="127476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Luchthaven Indelingsbesluit (L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83240" y="266760"/>
            <a:ext cx="71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 Unicode MS"/>
              </a:rPr>
              <a:t>Welkom in Haarlemmerm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5435-CF33-47D6-9F5C-3030E7DF64B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65BB-3459-4722-9573-9AD43287763B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14240" y="1163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Samenhang bestemmingsplannen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grpSp>
        <p:nvGrpSpPr>
          <p:cNvPr id="822" name="Group 3"/>
          <p:cNvGrpSpPr/>
          <p:nvPr/>
        </p:nvGrpSpPr>
        <p:grpSpPr>
          <a:xfrm>
            <a:off x="189000" y="2471760"/>
            <a:ext cx="7061040" cy="3932280"/>
            <a:chOff x="189000" y="2471760"/>
            <a:chExt cx="7061040" cy="3932280"/>
          </a:xfrm>
        </p:grpSpPr>
        <p:sp>
          <p:nvSpPr>
            <p:cNvPr id="823" name="AutoShape 4"/>
            <p:cNvSpPr/>
            <p:nvPr/>
          </p:nvSpPr>
          <p:spPr>
            <a:xfrm>
              <a:off x="189000" y="2471760"/>
              <a:ext cx="7061040" cy="3932280"/>
            </a:xfrm>
            <a:prstGeom prst="parallelogram">
              <a:avLst>
                <a:gd name="adj" fmla="val 6244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5"/>
            <p:cNvSpPr/>
            <p:nvPr/>
          </p:nvSpPr>
          <p:spPr>
            <a:xfrm>
              <a:off x="1341000" y="2668680"/>
              <a:ext cx="4221000" cy="3468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>
              <a:off x="2088000" y="4262400"/>
              <a:ext cx="900360" cy="8233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7"/>
            <p:cNvSpPr/>
            <p:nvPr/>
          </p:nvSpPr>
          <p:spPr>
            <a:xfrm>
              <a:off x="3932640" y="2924640"/>
              <a:ext cx="183600" cy="9201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8"/>
            <p:cNvSpPr/>
            <p:nvPr/>
          </p:nvSpPr>
          <p:spPr>
            <a:xfrm>
              <a:off x="4943880" y="3739320"/>
              <a:ext cx="488160" cy="3031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9"/>
            <p:cNvSpPr/>
            <p:nvPr/>
          </p:nvSpPr>
          <p:spPr>
            <a:xfrm>
              <a:off x="2982600" y="3739320"/>
              <a:ext cx="1828800" cy="1093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10"/>
            <p:cNvSpPr/>
            <p:nvPr/>
          </p:nvSpPr>
          <p:spPr>
            <a:xfrm>
              <a:off x="3656160" y="3315600"/>
              <a:ext cx="156960" cy="1198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11"/>
            <p:cNvSpPr/>
            <p:nvPr/>
          </p:nvSpPr>
          <p:spPr>
            <a:xfrm>
              <a:off x="3568680" y="3542040"/>
              <a:ext cx="30960" cy="30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2149920" y="4581360"/>
              <a:ext cx="37080" cy="61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4361760" y="3394080"/>
              <a:ext cx="490680" cy="3776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4460760" y="4027680"/>
              <a:ext cx="694440" cy="5972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815120" y="5209920"/>
              <a:ext cx="191520" cy="3013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603160" y="5183640"/>
              <a:ext cx="317520" cy="2307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1392480" y="5919120"/>
              <a:ext cx="322560" cy="21852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1889280" y="5654880"/>
              <a:ext cx="192240" cy="172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2988360" y="4483800"/>
              <a:ext cx="509040" cy="3099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2287080" y="4705200"/>
              <a:ext cx="397440" cy="3628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2677680" y="4713840"/>
              <a:ext cx="565560" cy="3542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22"/>
            <p:cNvSpPr/>
            <p:nvPr/>
          </p:nvSpPr>
          <p:spPr>
            <a:xfrm flipH="1" flipV="1">
              <a:off x="4137480" y="3650400"/>
              <a:ext cx="68400" cy="88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23"/>
            <p:cNvSpPr/>
            <p:nvPr/>
          </p:nvSpPr>
          <p:spPr>
            <a:xfrm flipH="1">
              <a:off x="4017600" y="3663720"/>
              <a:ext cx="119160" cy="18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4"/>
            <p:cNvSpPr/>
            <p:nvPr/>
          </p:nvSpPr>
          <p:spPr>
            <a:xfrm flipH="1">
              <a:off x="4356000" y="4412160"/>
              <a:ext cx="91800" cy="71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5"/>
            <p:cNvSpPr/>
            <p:nvPr/>
          </p:nvSpPr>
          <p:spPr>
            <a:xfrm>
              <a:off x="4356360" y="4483800"/>
              <a:ext cx="134640" cy="97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6"/>
            <p:cNvSpPr/>
            <p:nvPr/>
          </p:nvSpPr>
          <p:spPr>
            <a:xfrm>
              <a:off x="3245400" y="3962520"/>
              <a:ext cx="891720" cy="565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27"/>
            <p:cNvSpPr/>
            <p:nvPr/>
          </p:nvSpPr>
          <p:spPr>
            <a:xfrm>
              <a:off x="2060640" y="3482280"/>
              <a:ext cx="2399760" cy="22280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28"/>
            <p:cNvSpPr/>
            <p:nvPr/>
          </p:nvSpPr>
          <p:spPr>
            <a:xfrm>
              <a:off x="4079520" y="3315600"/>
              <a:ext cx="269640" cy="2736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9"/>
            <p:cNvSpPr/>
            <p:nvPr/>
          </p:nvSpPr>
          <p:spPr>
            <a:xfrm flipH="1">
              <a:off x="3932280" y="3845160"/>
              <a:ext cx="853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30"/>
            <p:cNvSpPr/>
            <p:nvPr/>
          </p:nvSpPr>
          <p:spPr>
            <a:xfrm flipV="1">
              <a:off x="4319280" y="3845160"/>
              <a:ext cx="37080" cy="41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31"/>
            <p:cNvSpPr/>
            <p:nvPr/>
          </p:nvSpPr>
          <p:spPr>
            <a:xfrm flipH="1" flipV="1">
              <a:off x="4205880" y="3739320"/>
              <a:ext cx="150480" cy="105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32"/>
            <p:cNvSpPr/>
            <p:nvPr/>
          </p:nvSpPr>
          <p:spPr>
            <a:xfrm>
              <a:off x="4319280" y="4262400"/>
              <a:ext cx="85320" cy="43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33"/>
            <p:cNvSpPr/>
            <p:nvPr/>
          </p:nvSpPr>
          <p:spPr>
            <a:xfrm flipV="1">
              <a:off x="4404600" y="4120920"/>
              <a:ext cx="43560" cy="18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448160" y="4120920"/>
              <a:ext cx="1206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5"/>
            <p:cNvSpPr/>
            <p:nvPr/>
          </p:nvSpPr>
          <p:spPr>
            <a:xfrm flipH="1">
              <a:off x="4447800" y="4120920"/>
              <a:ext cx="120600" cy="291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6"/>
            <p:cNvSpPr/>
            <p:nvPr/>
          </p:nvSpPr>
          <p:spPr>
            <a:xfrm>
              <a:off x="4852800" y="3663720"/>
              <a:ext cx="91080" cy="7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37"/>
            <p:cNvSpPr/>
            <p:nvPr/>
          </p:nvSpPr>
          <p:spPr>
            <a:xfrm>
              <a:off x="2081520" y="5654880"/>
              <a:ext cx="1254240" cy="2790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8"/>
            <p:cNvSpPr/>
            <p:nvPr/>
          </p:nvSpPr>
          <p:spPr>
            <a:xfrm>
              <a:off x="1969560" y="5050800"/>
              <a:ext cx="939240" cy="56556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9"/>
            <p:cNvSpPr/>
            <p:nvPr/>
          </p:nvSpPr>
          <p:spPr>
            <a:xfrm>
              <a:off x="2287080" y="5085720"/>
              <a:ext cx="241560" cy="194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40"/>
            <p:cNvSpPr/>
            <p:nvPr/>
          </p:nvSpPr>
          <p:spPr>
            <a:xfrm>
              <a:off x="2746440" y="2817720"/>
              <a:ext cx="1801440" cy="148824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41"/>
            <p:cNvSpPr/>
            <p:nvPr/>
          </p:nvSpPr>
          <p:spPr>
            <a:xfrm>
              <a:off x="2908800" y="4793760"/>
              <a:ext cx="1023480" cy="876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42"/>
            <p:cNvSpPr/>
            <p:nvPr/>
          </p:nvSpPr>
          <p:spPr>
            <a:xfrm>
              <a:off x="3207600" y="4235400"/>
              <a:ext cx="504000" cy="38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43"/>
            <p:cNvSpPr/>
            <p:nvPr/>
          </p:nvSpPr>
          <p:spPr>
            <a:xfrm>
              <a:off x="3207600" y="4719960"/>
              <a:ext cx="504000" cy="38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44"/>
            <p:cNvSpPr/>
            <p:nvPr/>
          </p:nvSpPr>
          <p:spPr>
            <a:xfrm>
              <a:off x="3207600" y="4516560"/>
              <a:ext cx="0" cy="472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45"/>
            <p:cNvSpPr/>
            <p:nvPr/>
          </p:nvSpPr>
          <p:spPr>
            <a:xfrm>
              <a:off x="3435840" y="4628160"/>
              <a:ext cx="0" cy="472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46"/>
            <p:cNvSpPr/>
            <p:nvPr/>
          </p:nvSpPr>
          <p:spPr>
            <a:xfrm>
              <a:off x="3711600" y="4386960"/>
              <a:ext cx="0" cy="472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47"/>
            <p:cNvSpPr/>
            <p:nvPr/>
          </p:nvSpPr>
          <p:spPr>
            <a:xfrm flipH="1">
              <a:off x="3578040" y="4313520"/>
              <a:ext cx="111240" cy="12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48"/>
            <p:cNvSpPr/>
            <p:nvPr/>
          </p:nvSpPr>
          <p:spPr>
            <a:xfrm flipH="1">
              <a:off x="3575880" y="4809600"/>
              <a:ext cx="110880" cy="12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9"/>
            <p:cNvSpPr/>
            <p:nvPr/>
          </p:nvSpPr>
          <p:spPr>
            <a:xfrm flipH="1" flipV="1">
              <a:off x="3336120" y="4704840"/>
              <a:ext cx="416160" cy="234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50"/>
            <p:cNvSpPr/>
            <p:nvPr/>
          </p:nvSpPr>
          <p:spPr>
            <a:xfrm flipV="1">
              <a:off x="3245400" y="4809600"/>
              <a:ext cx="289080" cy="258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51"/>
            <p:cNvSpPr/>
            <p:nvPr/>
          </p:nvSpPr>
          <p:spPr>
            <a:xfrm>
              <a:off x="3934800" y="5045040"/>
              <a:ext cx="117000" cy="97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52"/>
            <p:cNvSpPr/>
            <p:nvPr/>
          </p:nvSpPr>
          <p:spPr>
            <a:xfrm flipH="1">
              <a:off x="3895560" y="5142600"/>
              <a:ext cx="156240" cy="153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53"/>
            <p:cNvSpPr/>
            <p:nvPr/>
          </p:nvSpPr>
          <p:spPr>
            <a:xfrm>
              <a:off x="3876120" y="5296320"/>
              <a:ext cx="107280" cy="125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54"/>
            <p:cNvSpPr/>
            <p:nvPr/>
          </p:nvSpPr>
          <p:spPr>
            <a:xfrm flipV="1">
              <a:off x="3787920" y="4514040"/>
              <a:ext cx="488880" cy="432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55"/>
            <p:cNvSpPr/>
            <p:nvPr/>
          </p:nvSpPr>
          <p:spPr>
            <a:xfrm>
              <a:off x="3885840" y="4528440"/>
              <a:ext cx="479160" cy="307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56"/>
            <p:cNvSpPr/>
            <p:nvPr/>
          </p:nvSpPr>
          <p:spPr>
            <a:xfrm flipV="1">
              <a:off x="4384440" y="4668120"/>
              <a:ext cx="176040" cy="153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7"/>
            <p:cNvSpPr/>
            <p:nvPr/>
          </p:nvSpPr>
          <p:spPr>
            <a:xfrm>
              <a:off x="3611880" y="3858480"/>
              <a:ext cx="68400" cy="12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Text Box 58"/>
          <p:cNvSpPr/>
          <p:nvPr/>
        </p:nvSpPr>
        <p:spPr>
          <a:xfrm>
            <a:off x="6643800" y="4376880"/>
            <a:ext cx="21114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Ontwerp bestemmingsplan bestemming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9"/>
          <p:cNvSpPr/>
          <p:nvPr/>
        </p:nvSpPr>
        <p:spPr>
          <a:xfrm>
            <a:off x="6716880" y="5487840"/>
            <a:ext cx="1650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Oud bestemmings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60"/>
          <p:cNvSpPr/>
          <p:nvPr/>
        </p:nvSpPr>
        <p:spPr>
          <a:xfrm>
            <a:off x="6421320" y="5010120"/>
            <a:ext cx="182520" cy="22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61"/>
          <p:cNvSpPr/>
          <p:nvPr/>
        </p:nvSpPr>
        <p:spPr>
          <a:xfrm>
            <a:off x="6421320" y="5592600"/>
            <a:ext cx="18252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62"/>
          <p:cNvSpPr/>
          <p:nvPr/>
        </p:nvSpPr>
        <p:spPr>
          <a:xfrm>
            <a:off x="6421320" y="4511520"/>
            <a:ext cx="182520" cy="2113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63"/>
          <p:cNvSpPr/>
          <p:nvPr/>
        </p:nvSpPr>
        <p:spPr>
          <a:xfrm>
            <a:off x="6702480" y="4989600"/>
            <a:ext cx="15447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Gebied onthou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64"/>
          <p:cNvSpPr/>
          <p:nvPr/>
        </p:nvSpPr>
        <p:spPr>
          <a:xfrm>
            <a:off x="714960" y="1728720"/>
            <a:ext cx="7439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9999"/>
                </a:solidFill>
                <a:latin typeface="Arial"/>
              </a:rPr>
              <a:t>Alle bestemmingsplangebieden en hoofdbestemmingen vormen el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9999"/>
                </a:solidFill>
                <a:latin typeface="Arial"/>
              </a:rPr>
              <a:t>1 aaneengesloten laag met informatie over het gehele grondgebied van de gemeente</a:t>
            </a: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oup 65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885" name="Freeform 66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67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68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69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70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71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72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73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74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75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76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77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WordArt 78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8" name="WordArt 79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9" name="Freeform 80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ADE-7E90-4581-BA84-91077C73F2D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F96-5834-482A-A5D7-14546CEF5E79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ofdindeling DURP-model PRBP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904" name="Picture 3" descr=""/>
          <p:cNvPicPr/>
          <p:nvPr/>
        </p:nvPicPr>
        <p:blipFill>
          <a:blip r:embed="rId1"/>
          <a:stretch/>
        </p:blipFill>
        <p:spPr>
          <a:xfrm>
            <a:off x="1990800" y="2697120"/>
            <a:ext cx="5878440" cy="3352680"/>
          </a:xfrm>
          <a:prstGeom prst="rect">
            <a:avLst/>
          </a:prstGeom>
          <a:ln w="0">
            <a:noFill/>
          </a:ln>
        </p:spPr>
      </p:pic>
      <p:grpSp>
        <p:nvGrpSpPr>
          <p:cNvPr id="905" name="Group 4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906" name="Freeform 5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6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7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8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9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10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2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3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14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15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16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WordArt 17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9" name="WordArt 18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0" name="Freeform 19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750-E840-4BC7-A9D6-F236D48B36DB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86AA-5E54-4FF4-B674-26A426081490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36600" y="1990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PRBP2008-model  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926" name="Picture 21" descr=""/>
          <p:cNvPicPr/>
          <p:nvPr/>
        </p:nvPicPr>
        <p:blipFill>
          <a:blip r:embed="rId1"/>
          <a:stretch/>
        </p:blipFill>
        <p:spPr>
          <a:xfrm>
            <a:off x="468360" y="2743200"/>
            <a:ext cx="8142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20000"/>
          </a:xfrm>
          <a:prstGeom prst="rect">
            <a:avLst/>
          </a:prstGeom>
          <a:ln w="0">
            <a:noFill/>
          </a:ln>
        </p:spPr>
      </p:pic>
      <p:grpSp>
        <p:nvGrpSpPr>
          <p:cNvPr id="928" name="Group 23"/>
          <p:cNvGrpSpPr/>
          <p:nvPr/>
        </p:nvGrpSpPr>
        <p:grpSpPr>
          <a:xfrm>
            <a:off x="5457960" y="3297240"/>
            <a:ext cx="1049040" cy="851040"/>
            <a:chOff x="5457960" y="3297240"/>
            <a:chExt cx="1049040" cy="851040"/>
          </a:xfrm>
        </p:grpSpPr>
        <p:sp>
          <p:nvSpPr>
            <p:cNvPr id="929" name="Text Box 6"/>
            <p:cNvSpPr/>
            <p:nvPr/>
          </p:nvSpPr>
          <p:spPr>
            <a:xfrm>
              <a:off x="5935680" y="3570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4"/>
            <p:cNvSpPr/>
            <p:nvPr/>
          </p:nvSpPr>
          <p:spPr>
            <a:xfrm>
              <a:off x="5457960" y="3297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5"/>
            <p:cNvSpPr/>
            <p:nvPr/>
          </p:nvSpPr>
          <p:spPr>
            <a:xfrm>
              <a:off x="5678640" y="3417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7"/>
            <p:cNvSpPr/>
            <p:nvPr/>
          </p:nvSpPr>
          <p:spPr>
            <a:xfrm>
              <a:off x="6174000" y="3780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Text Box 8"/>
          <p:cNvSpPr/>
          <p:nvPr/>
        </p:nvSpPr>
        <p:spPr>
          <a:xfrm>
            <a:off x="7548480" y="44416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3062160" y="2832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20"/>
          <p:cNvGrpSpPr/>
          <p:nvPr/>
        </p:nvGrpSpPr>
        <p:grpSpPr>
          <a:xfrm>
            <a:off x="388800" y="3335400"/>
            <a:ext cx="1265400" cy="582840"/>
            <a:chOff x="388800" y="3335400"/>
            <a:chExt cx="1265400" cy="582840"/>
          </a:xfrm>
        </p:grpSpPr>
        <p:sp>
          <p:nvSpPr>
            <p:cNvPr id="936" name="Text Box 15"/>
            <p:cNvSpPr/>
            <p:nvPr/>
          </p:nvSpPr>
          <p:spPr>
            <a:xfrm>
              <a:off x="1173240" y="3336840"/>
              <a:ext cx="48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388800" y="3335400"/>
              <a:ext cx="48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4BF5-A530-4768-818C-94278BAAB59E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7D53-FA35-4F7A-B759-CB2B5044B6F1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803240" y="145548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Mogelijke relaties tussen objecten: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942" name="Picture 3" descr=""/>
          <p:cNvPicPr/>
          <p:nvPr/>
        </p:nvPicPr>
        <p:blipFill>
          <a:blip r:embed="rId1"/>
          <a:stretch/>
        </p:blipFill>
        <p:spPr>
          <a:xfrm>
            <a:off x="1600200" y="2352600"/>
            <a:ext cx="7243920" cy="399888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4"/>
          <p:cNvSpPr/>
          <p:nvPr/>
        </p:nvSpPr>
        <p:spPr>
          <a:xfrm>
            <a:off x="1811880" y="63388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15 toegestane relaties!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5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945" name="Freeform 6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WordArt 18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8" name="WordArt 19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D82-8411-4B3B-B957-2F8E23CE653D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4B95-754E-497C-81B7-651C602430F1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e naar voorschriften?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grpSp>
        <p:nvGrpSpPr>
          <p:cNvPr id="964" name="Group 3"/>
          <p:cNvGrpSpPr/>
          <p:nvPr/>
        </p:nvGrpSpPr>
        <p:grpSpPr>
          <a:xfrm>
            <a:off x="912960" y="3067200"/>
            <a:ext cx="7522560" cy="3145680"/>
            <a:chOff x="912960" y="3067200"/>
            <a:chExt cx="7522560" cy="3145680"/>
          </a:xfrm>
        </p:grpSpPr>
        <p:grpSp>
          <p:nvGrpSpPr>
            <p:cNvPr id="965" name="Group 4"/>
            <p:cNvGrpSpPr/>
            <p:nvPr/>
          </p:nvGrpSpPr>
          <p:grpSpPr>
            <a:xfrm>
              <a:off x="912960" y="3067200"/>
              <a:ext cx="7522560" cy="3145680"/>
              <a:chOff x="912960" y="3067200"/>
              <a:chExt cx="7522560" cy="3145680"/>
            </a:xfrm>
          </p:grpSpPr>
          <p:sp>
            <p:nvSpPr>
              <p:cNvPr id="966" name="Line 5"/>
              <p:cNvSpPr/>
              <p:nvPr/>
            </p:nvSpPr>
            <p:spPr>
              <a:xfrm>
                <a:off x="759924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6"/>
              <p:cNvSpPr/>
              <p:nvPr/>
            </p:nvSpPr>
            <p:spPr>
              <a:xfrm>
                <a:off x="569916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7"/>
              <p:cNvSpPr/>
              <p:nvPr/>
            </p:nvSpPr>
            <p:spPr>
              <a:xfrm>
                <a:off x="366516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8"/>
              <p:cNvSpPr/>
              <p:nvPr/>
            </p:nvSpPr>
            <p:spPr>
              <a:xfrm>
                <a:off x="1720440" y="3888720"/>
                <a:ext cx="0" cy="150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9"/>
              <p:cNvSpPr/>
              <p:nvPr/>
            </p:nvSpPr>
            <p:spPr>
              <a:xfrm>
                <a:off x="3890160" y="30672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Bestemmingspl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0"/>
              <p:cNvSpPr/>
              <p:nvPr/>
            </p:nvSpPr>
            <p:spPr>
              <a:xfrm>
                <a:off x="91296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Hoofdbestemm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11"/>
              <p:cNvSpPr/>
              <p:nvPr/>
            </p:nvSpPr>
            <p:spPr>
              <a:xfrm>
                <a:off x="286560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Bouwvl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12"/>
              <p:cNvSpPr/>
              <p:nvPr/>
            </p:nvSpPr>
            <p:spPr>
              <a:xfrm>
                <a:off x="483840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Aandui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3"/>
              <p:cNvSpPr/>
              <p:nvPr/>
            </p:nvSpPr>
            <p:spPr>
              <a:xfrm>
                <a:off x="6790320" y="430560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Dubbelbestemm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14"/>
              <p:cNvSpPr/>
              <p:nvPr/>
            </p:nvSpPr>
            <p:spPr>
              <a:xfrm>
                <a:off x="3890160" y="5697720"/>
                <a:ext cx="1645200" cy="51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339999"/>
                    </a:solidFill>
                    <a:latin typeface="Times New Roman"/>
                  </a:rPr>
                  <a:t>Voorschif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5"/>
              <p:cNvSpPr/>
              <p:nvPr/>
            </p:nvSpPr>
            <p:spPr>
              <a:xfrm>
                <a:off x="1720440" y="3888720"/>
                <a:ext cx="587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6"/>
              <p:cNvSpPr/>
              <p:nvPr/>
            </p:nvSpPr>
            <p:spPr>
              <a:xfrm>
                <a:off x="1720440" y="5391360"/>
                <a:ext cx="587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Line 17"/>
              <p:cNvSpPr/>
              <p:nvPr/>
            </p:nvSpPr>
            <p:spPr>
              <a:xfrm>
                <a:off x="4687200" y="358236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8"/>
              <p:cNvSpPr/>
              <p:nvPr/>
            </p:nvSpPr>
            <p:spPr>
              <a:xfrm>
                <a:off x="4687200" y="539136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19"/>
            <p:cNvGrpSpPr/>
            <p:nvPr/>
          </p:nvGrpSpPr>
          <p:grpSpPr>
            <a:xfrm>
              <a:off x="1560600" y="4068720"/>
              <a:ext cx="331560" cy="223560"/>
              <a:chOff x="1560600" y="4068720"/>
              <a:chExt cx="331560" cy="223560"/>
            </a:xfrm>
          </p:grpSpPr>
          <p:sp>
            <p:nvSpPr>
              <p:cNvPr id="981" name="Line 20"/>
              <p:cNvSpPr/>
              <p:nvPr/>
            </p:nvSpPr>
            <p:spPr>
              <a:xfrm flipH="1" flipV="1">
                <a:off x="1726200" y="406872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21"/>
              <p:cNvSpPr/>
              <p:nvPr/>
            </p:nvSpPr>
            <p:spPr>
              <a:xfrm flipV="1">
                <a:off x="1560600" y="406872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22"/>
            <p:cNvGrpSpPr/>
            <p:nvPr/>
          </p:nvGrpSpPr>
          <p:grpSpPr>
            <a:xfrm>
              <a:off x="1572840" y="4843440"/>
              <a:ext cx="331560" cy="226080"/>
              <a:chOff x="1572840" y="4843440"/>
              <a:chExt cx="331560" cy="226080"/>
            </a:xfrm>
          </p:grpSpPr>
          <p:sp>
            <p:nvSpPr>
              <p:cNvPr id="984" name="Line 23"/>
              <p:cNvSpPr/>
              <p:nvPr/>
            </p:nvSpPr>
            <p:spPr>
              <a:xfrm flipH="1">
                <a:off x="1738440" y="484344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24"/>
              <p:cNvSpPr/>
              <p:nvPr/>
            </p:nvSpPr>
            <p:spPr>
              <a:xfrm>
                <a:off x="1572840" y="484344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25"/>
            <p:cNvGrpSpPr/>
            <p:nvPr/>
          </p:nvGrpSpPr>
          <p:grpSpPr>
            <a:xfrm>
              <a:off x="3480120" y="4064400"/>
              <a:ext cx="331560" cy="223200"/>
              <a:chOff x="3480120" y="4064400"/>
              <a:chExt cx="331560" cy="223200"/>
            </a:xfrm>
          </p:grpSpPr>
          <p:sp>
            <p:nvSpPr>
              <p:cNvPr id="987" name="Line 26"/>
              <p:cNvSpPr/>
              <p:nvPr/>
            </p:nvSpPr>
            <p:spPr>
              <a:xfrm flipH="1" flipV="1">
                <a:off x="3645720" y="406440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Line 27"/>
              <p:cNvSpPr/>
              <p:nvPr/>
            </p:nvSpPr>
            <p:spPr>
              <a:xfrm flipV="1">
                <a:off x="3480120" y="406440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28"/>
            <p:cNvGrpSpPr/>
            <p:nvPr/>
          </p:nvGrpSpPr>
          <p:grpSpPr>
            <a:xfrm>
              <a:off x="5551920" y="4071960"/>
              <a:ext cx="331560" cy="223200"/>
              <a:chOff x="5551920" y="4071960"/>
              <a:chExt cx="331560" cy="223200"/>
            </a:xfrm>
          </p:grpSpPr>
          <p:sp>
            <p:nvSpPr>
              <p:cNvPr id="990" name="Line 29"/>
              <p:cNvSpPr/>
              <p:nvPr/>
            </p:nvSpPr>
            <p:spPr>
              <a:xfrm flipH="1" flipV="1">
                <a:off x="5717520" y="407196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Line 30"/>
              <p:cNvSpPr/>
              <p:nvPr/>
            </p:nvSpPr>
            <p:spPr>
              <a:xfrm flipV="1">
                <a:off x="5551920" y="407196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31"/>
            <p:cNvGrpSpPr/>
            <p:nvPr/>
          </p:nvGrpSpPr>
          <p:grpSpPr>
            <a:xfrm>
              <a:off x="7421040" y="4066920"/>
              <a:ext cx="331560" cy="226080"/>
              <a:chOff x="7421040" y="4066920"/>
              <a:chExt cx="331560" cy="226080"/>
            </a:xfrm>
          </p:grpSpPr>
          <p:sp>
            <p:nvSpPr>
              <p:cNvPr id="993" name="Line 32"/>
              <p:cNvSpPr/>
              <p:nvPr/>
            </p:nvSpPr>
            <p:spPr>
              <a:xfrm flipH="1" flipV="1">
                <a:off x="7586640" y="406692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Line 33"/>
              <p:cNvSpPr/>
              <p:nvPr/>
            </p:nvSpPr>
            <p:spPr>
              <a:xfrm flipV="1">
                <a:off x="7421040" y="4066920"/>
                <a:ext cx="165960" cy="22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Group 34"/>
            <p:cNvGrpSpPr/>
            <p:nvPr/>
          </p:nvGrpSpPr>
          <p:grpSpPr>
            <a:xfrm>
              <a:off x="3496680" y="4853160"/>
              <a:ext cx="331560" cy="223560"/>
              <a:chOff x="3496680" y="4853160"/>
              <a:chExt cx="331560" cy="223560"/>
            </a:xfrm>
          </p:grpSpPr>
          <p:sp>
            <p:nvSpPr>
              <p:cNvPr id="996" name="Line 35"/>
              <p:cNvSpPr/>
              <p:nvPr/>
            </p:nvSpPr>
            <p:spPr>
              <a:xfrm flipH="1">
                <a:off x="3662280" y="48531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Line 36"/>
              <p:cNvSpPr/>
              <p:nvPr/>
            </p:nvSpPr>
            <p:spPr>
              <a:xfrm>
                <a:off x="3496680" y="48531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37"/>
            <p:cNvGrpSpPr/>
            <p:nvPr/>
          </p:nvGrpSpPr>
          <p:grpSpPr>
            <a:xfrm>
              <a:off x="5544000" y="4847760"/>
              <a:ext cx="331560" cy="223560"/>
              <a:chOff x="5544000" y="4847760"/>
              <a:chExt cx="331560" cy="223560"/>
            </a:xfrm>
          </p:grpSpPr>
          <p:sp>
            <p:nvSpPr>
              <p:cNvPr id="999" name="Line 38"/>
              <p:cNvSpPr/>
              <p:nvPr/>
            </p:nvSpPr>
            <p:spPr>
              <a:xfrm flipH="1">
                <a:off x="5709600" y="48477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Line 39"/>
              <p:cNvSpPr/>
              <p:nvPr/>
            </p:nvSpPr>
            <p:spPr>
              <a:xfrm>
                <a:off x="5544000" y="4847760"/>
                <a:ext cx="16596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40"/>
            <p:cNvGrpSpPr/>
            <p:nvPr/>
          </p:nvGrpSpPr>
          <p:grpSpPr>
            <a:xfrm>
              <a:off x="7445520" y="4843440"/>
              <a:ext cx="331560" cy="223200"/>
              <a:chOff x="7445520" y="4843440"/>
              <a:chExt cx="331560" cy="223200"/>
            </a:xfrm>
          </p:grpSpPr>
          <p:sp>
            <p:nvSpPr>
              <p:cNvPr id="1002" name="Line 41"/>
              <p:cNvSpPr/>
              <p:nvPr/>
            </p:nvSpPr>
            <p:spPr>
              <a:xfrm flipH="1">
                <a:off x="7611120" y="484344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42"/>
              <p:cNvSpPr/>
              <p:nvPr/>
            </p:nvSpPr>
            <p:spPr>
              <a:xfrm>
                <a:off x="7445520" y="4843440"/>
                <a:ext cx="1659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Line 43"/>
          <p:cNvSpPr/>
          <p:nvPr/>
        </p:nvSpPr>
        <p:spPr>
          <a:xfrm flipV="1">
            <a:off x="1698480" y="2017440"/>
            <a:ext cx="6400800" cy="4049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44"/>
          <p:cNvSpPr/>
          <p:nvPr/>
        </p:nvSpPr>
        <p:spPr>
          <a:xfrm>
            <a:off x="1566720" y="2017800"/>
            <a:ext cx="6472440" cy="4005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1007" name="Freeform 46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47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48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49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50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51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52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53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54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55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56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57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WordArt 58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0" name="WordArt 59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21" name="Freeform 60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4C51-AB13-42CB-B0C1-9123C987673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B96-0226-49AD-91B6-EEFC6208B51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Picture 349" descr=""/>
          <p:cNvPicPr/>
          <p:nvPr/>
        </p:nvPicPr>
        <p:blipFill>
          <a:blip r:embed="rId1"/>
          <a:stretch/>
        </p:blipFill>
        <p:spPr>
          <a:xfrm>
            <a:off x="1065240" y="1765440"/>
            <a:ext cx="722952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9145-4FF1-4508-B196-19FCFB56F9B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639F-8108-4587-B34F-2A1F16525C4F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799920" y="15998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Communicatie met VROM over DURP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713880" y="2279160"/>
            <a:ext cx="812988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Bijdrage IMRO vanaf GFO RO en IMRO sinds 1998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Veel geïnvesteerd op oude IMRO-normen (2001 en 2003)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Reeds in 2005 gesprekken in Haarlemmermeer met VROM over lappendeken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Datum finale behandeling IMRO-beheercommissie na handtekening Rijk IPO VNG IMRO2006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Bezwaren bij lanceringbijeenkomst IMRO2006 doorgesproken VROM procesmanager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Bezwaren toegelicht op DURP dag in Arnhem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periode eind 2007 mei 2008 emails met senior beleidsmedewerker 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Per oktober 2008 per email twee stukken verzonden: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Argumenten: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Er is veel bereikt, maar is dat genoeg?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Lerende organisatie, maar is er wel genoeg ruimte geweest voor afwijkende ideeën 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Wel luisteren, maar te beperkt gevolg geven aan afwijkende ideeën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continue tijdsdruk door te weinig tijd plannen tussen IMRO-versies voor structurele zaken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doorschuifgedrag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heen en teug verwijzen naar GEONOVEM (terwijl vertegenwoordigers daarvan aan tafel zaten)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9999"/>
                </a:solidFill>
                <a:latin typeface="Arial"/>
              </a:rPr>
              <a:t>gemeente Haarlemmermeer opzadelen met landelijke businesscase</a:t>
            </a: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gepoogd IMRO op te nemen in RSGB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9999"/>
                </a:solidFill>
                <a:latin typeface="Arial"/>
              </a:rPr>
              <a:t>Waar is tweede trance WKPB?</a:t>
            </a:r>
            <a:endParaRPr b="0" lang="en-US" sz="1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C8E-3E2E-4CF3-8587-5E6AAEFF378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5A75-6550-4FFE-8716-FCE6081B7327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671480" y="1352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Tekortkomingen RO-online &amp; IMRO2008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2265120"/>
            <a:ext cx="82454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implementatie voor uitwisseling: nog niet voor bieden rechtzekerheid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ontbreken degelijk onderzoek procesmodel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basis is ten onrechte plan(gebied) i.p.v. bestemmin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onvoldoende gebaseerd op principes basisregistraties (NORA en RSGB)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register met brondocumenten (bp en bezwaarproc.) </a:t>
            </a:r>
            <a:r>
              <a:rPr b="0" lang="nl-NL" sz="1600" spc="-1" strike="noStrike">
                <a:solidFill>
                  <a:srgbClr val="ff3300"/>
                </a:solidFill>
                <a:latin typeface="Arial"/>
              </a:rPr>
              <a:t>en</a:t>
            </a: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 objectgerichte registratie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statussen en geldigheidsdata en brondocumenten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niet objectgericht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wijzigende identificatie zelfde bestemming in verschillende versies zelfde plan 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een oplossing doorsnijden nieuwe plannen in oude plann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relatie tussen bestemming en aanduiding onjuist (moeilijke zo niet onmogelijke structurele modelmatige consistentiecontrole mogelijk)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een mogelijkheid voor opslaan regels in datamodel (technisch eenvoudig)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wel toegezegde, maar nog geen oplossing paraplu-bestemmingen (o.a. LIB)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ruimtelijkeplannen.nl  biedt geen rechtzekerheid aan burger en ambtenaar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02F-709D-4B44-BB27-7DEA8130A5F6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9E55-D9FD-4E4E-8859-A3DF2BFC926C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32040" y="1730520"/>
            <a:ext cx="67197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Gevolgen IMRO2008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7280" y="2367000"/>
            <a:ext cx="76928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MRO2008 = Uitwisselingsmodel </a:t>
            </a:r>
            <a:r>
              <a:rPr b="0" lang="nl-NL" sz="2000" spc="-1" strike="noStrike">
                <a:solidFill>
                  <a:srgbClr val="339999"/>
                </a:solidFill>
                <a:latin typeface="Arial"/>
                <a:ea typeface="Arial"/>
              </a:rPr>
              <a:t>≠</a:t>
            </a: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 Basisregistratie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en leidende gemeentelijke bron en volgende landelijke voorziening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MRO = digitale buizenpost (VROM ontvangt alleen, doet niets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en sluitend model parapluibesluiten (LIB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en integrale databaseopslag regels (hierdoor grote verschillen tussen gemeenten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urger en ambtenaar verdwalen in brei van documenten (met wijzigende sleutels bestemmingen en vage verwijzingen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Waar is het onderliggende -brede- procesmodel?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volg geen effectieve en efficiënte dienstverlening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E8E-9CC1-4658-BF9B-A2995CE2457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5BE-0B23-448C-99BD-D4BE51AECED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Motto: Sturen op inhoud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verbruggen wetgeving en techniek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bijdrage leveren aan rijksontwikkeling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rganisatie op sleeptouw nem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024-39EF-4C4A-8ED0-74076064DEAB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EE7C-60E9-4949-B4F7-6E32C44588A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657080" y="1526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9999"/>
                </a:solidFill>
                <a:latin typeface="Arial"/>
              </a:rPr>
              <a:t>Voorstel Haarlemmermeer aan VROM</a:t>
            </a:r>
            <a:endParaRPr b="1" lang="en-US" sz="28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599840" y="2192040"/>
            <a:ext cx="701028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Op naar een basisregistratie bestemming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Gezamenlijke pilot do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Gedoseerde informatie aan de klant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Eenduidig en sluitend model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Per plan een bestan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Juridische status volgt: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vaststellingsprocedure en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zwarenprocedure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appendeken oplossen met Geoplanstatus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ijdelijke aanduiding voor datum 2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DE1-AC27-4678-98D0-D5D9EBB02062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ijdelijke aanduiding voor voettekst 3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ijdelijke aanduiding voor dianummer 4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978C-B297-4429-8BC8-A7922F1CA9E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79000" y="1918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Offerte Bentley 2007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50" name="Picture 5" descr=""/>
          <p:cNvPicPr/>
          <p:nvPr/>
        </p:nvPicPr>
        <p:blipFill>
          <a:blip r:embed="rId1"/>
          <a:stretch/>
        </p:blipFill>
        <p:spPr>
          <a:xfrm>
            <a:off x="1143000" y="1619280"/>
            <a:ext cx="800100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2CC1-A9F3-4196-8C35-1BE8B0B8336C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B3D1-70C9-4727-A755-6F5882AB6BA2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60480" y="380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Voorschriften pilot 1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55" name="Picture 3" descr=""/>
          <p:cNvPicPr/>
          <p:nvPr/>
        </p:nvPicPr>
        <p:blipFill>
          <a:blip r:embed="rId1"/>
          <a:stretch/>
        </p:blipFill>
        <p:spPr>
          <a:xfrm>
            <a:off x="515880" y="1082520"/>
            <a:ext cx="8269200" cy="5908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4"/>
          <p:cNvGrpSpPr/>
          <p:nvPr/>
        </p:nvGrpSpPr>
        <p:grpSpPr>
          <a:xfrm>
            <a:off x="7786800" y="185760"/>
            <a:ext cx="1144440" cy="1063440"/>
            <a:chOff x="7786800" y="185760"/>
            <a:chExt cx="1144440" cy="1063440"/>
          </a:xfrm>
        </p:grpSpPr>
        <p:sp>
          <p:nvSpPr>
            <p:cNvPr id="1057" name="Freeform 5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solidFill>
              <a:srgbClr val="e6f0c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6"/>
            <p:cNvSpPr/>
            <p:nvPr/>
          </p:nvSpPr>
          <p:spPr>
            <a:xfrm>
              <a:off x="7910280" y="238680"/>
              <a:ext cx="559440" cy="5137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7"/>
            <p:cNvSpPr/>
            <p:nvPr/>
          </p:nvSpPr>
          <p:spPr>
            <a:xfrm>
              <a:off x="8007120" y="466920"/>
              <a:ext cx="612360" cy="6123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8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9"/>
            <p:cNvSpPr/>
            <p:nvPr/>
          </p:nvSpPr>
          <p:spPr>
            <a:xfrm>
              <a:off x="8043840" y="507960"/>
              <a:ext cx="385560" cy="38088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10"/>
            <p:cNvSpPr/>
            <p:nvPr/>
          </p:nvSpPr>
          <p:spPr>
            <a:xfrm>
              <a:off x="7905600" y="186840"/>
              <a:ext cx="276120" cy="19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11"/>
            <p:cNvSpPr/>
            <p:nvPr/>
          </p:nvSpPr>
          <p:spPr>
            <a:xfrm>
              <a:off x="7910280" y="547200"/>
              <a:ext cx="271440" cy="531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12"/>
            <p:cNvSpPr/>
            <p:nvPr/>
          </p:nvSpPr>
          <p:spPr>
            <a:xfrm>
              <a:off x="7863480" y="186840"/>
              <a:ext cx="565920" cy="390600"/>
            </a:xfrm>
            <a:prstGeom prst="pie">
              <a:avLst/>
            </a:prstGeom>
            <a:solidFill>
              <a:srgbClr val="9b9b9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13"/>
            <p:cNvSpPr/>
            <p:nvPr/>
          </p:nvSpPr>
          <p:spPr>
            <a:xfrm>
              <a:off x="8182080" y="770760"/>
              <a:ext cx="437400" cy="30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14"/>
            <p:cNvSpPr/>
            <p:nvPr/>
          </p:nvSpPr>
          <p:spPr>
            <a:xfrm>
              <a:off x="8357040" y="238680"/>
              <a:ext cx="262440" cy="53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15"/>
            <p:cNvSpPr/>
            <p:nvPr/>
          </p:nvSpPr>
          <p:spPr>
            <a:xfrm>
              <a:off x="8345880" y="466920"/>
              <a:ext cx="1242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16"/>
            <p:cNvSpPr/>
            <p:nvPr/>
          </p:nvSpPr>
          <p:spPr>
            <a:xfrm>
              <a:off x="8007120" y="694800"/>
              <a:ext cx="88200" cy="5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WordArt 17"/>
            <p:cNvSpPr txBox="1"/>
            <p:nvPr/>
          </p:nvSpPr>
          <p:spPr>
            <a:xfrm rot="3538800">
              <a:off x="8184960" y="613080"/>
              <a:ext cx="129240" cy="15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0" name="WordArt 18"/>
            <p:cNvSpPr txBox="1"/>
            <p:nvPr/>
          </p:nvSpPr>
          <p:spPr>
            <a:xfrm rot="3462600">
              <a:off x="8062560" y="214920"/>
              <a:ext cx="106200" cy="153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1" name="Freeform 19"/>
            <p:cNvSpPr/>
            <p:nvPr/>
          </p:nvSpPr>
          <p:spPr>
            <a:xfrm>
              <a:off x="7786800" y="185760"/>
              <a:ext cx="1144440" cy="106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760-E3FC-4D5D-99E7-128D809D1689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0C28-E5D3-45AE-A760-7A9E5ED8DE45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F0A8-2912-4A98-88B2-2249E70FBDDD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ED70-1B27-499D-9507-14DE2BDC829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83" name="Picture 4" descr=""/>
          <p:cNvPicPr/>
          <p:nvPr/>
        </p:nvPicPr>
        <p:blipFill>
          <a:blip r:embed="rId1"/>
          <a:stretch/>
        </p:blipFill>
        <p:spPr>
          <a:xfrm>
            <a:off x="-2476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51D8-2617-4DF2-916D-20253CBA065E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0A04-D8CF-4560-8D28-7075F174479B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1089" name="Picture 4" descr=""/>
          <p:cNvPicPr/>
          <p:nvPr/>
        </p:nvPicPr>
        <p:blipFill>
          <a:blip r:embed="rId1"/>
          <a:stretch/>
        </p:blipFill>
        <p:spPr>
          <a:xfrm>
            <a:off x="-2476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945-1983-4E95-9E19-F798305CAD1F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B3A-532C-4E6E-8CD6-08F48A1BCE54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71400" y="1469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Samenwerking met Rijk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55120" y="2277720"/>
            <a:ext cx="80550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vanaf begin betrokken bij BAG: 1</a:t>
            </a:r>
            <a:r>
              <a:rPr b="0" lang="nl-NL" sz="2400" spc="-1" strike="noStrike" baseline="30000">
                <a:solidFill>
                  <a:srgbClr val="339999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 objectenhandboek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pilotgroep BAG en expertgroepen BAG-ICT, gebruiksoppervlakte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GOB en vraagzijde gemeenten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expertgroep evaluatie functioneel ontwerp mGBA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Kadaster en BAG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RSGB architectuur en RSGB WOZ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RSGB-STUF regiegroep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9999"/>
                </a:solidFill>
                <a:latin typeface="Arial"/>
              </a:rPr>
              <a:t>lid IOBR van CUR/Bouw Informatie Raad</a:t>
            </a:r>
            <a:endParaRPr b="0" lang="en-US" sz="24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00C6-8561-4A63-B68F-C25782C350E3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FF0F-AE9D-4115-95E1-6EBC4BB493B8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57000" y="1455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Hoogtepunten Haarlemmermeer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61920" y="2190240"/>
            <a:ext cx="764856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astgoedbasisregistratie project 2000-2003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octrooi ruimtelijke databases (met 4 verschillende CAD-GIS systemen)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objectgericht gegevenswoordenboek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Project BA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objectenhandboek versie 1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plan van aanpak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1</a:t>
            </a:r>
            <a:r>
              <a:rPr b="0" lang="nl-NL" sz="1600" spc="-1" strike="noStrike" baseline="30000">
                <a:solidFill>
                  <a:srgbClr val="339999"/>
                </a:solidFill>
                <a:latin typeface="Arial"/>
              </a:rPr>
              <a:t>e</a:t>
            </a: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  processenhandboek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invoering elektronische handtekening op brondocumenten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programma van eisen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applicatie Urbidata met aanvullende gegevens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1</a:t>
            </a:r>
            <a:r>
              <a:rPr b="0" lang="nl-NL" sz="1600" spc="-1" strike="noStrike" baseline="30000">
                <a:solidFill>
                  <a:srgbClr val="339999"/>
                </a:solidFill>
                <a:latin typeface="Arial"/>
              </a:rPr>
              <a:t>e</a:t>
            </a: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 gegevensintegratie op basis STUF3.0 tussen GIS en BAG-applicatie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Eerste integrale aanbesteding Frontoffice-Backoffice 2005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eodata transparant in een database en direct ontsloten op het internet voor dienstverlenin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invoering gegevensmanagement als aparte taak in organisatie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9999"/>
                </a:solidFill>
                <a:latin typeface="Arial"/>
              </a:rPr>
              <a:t>nieuw gegevenswoordenboek op basis RSGB</a:t>
            </a:r>
            <a:endParaRPr b="0" lang="en-US" sz="16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8900-9E67-4814-AA46-764639FEB137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3443-B91E-48BA-A4BC-204439A40AD3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25240" y="14410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Groeipijn gemeenten algemeen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2279520"/>
            <a:ext cx="91440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meenten en leveranciers moeten processen en applicaties omvormen naar ketendenken en zaakgericht werken, ook eigen mensen moeten mee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landelijke producten soms tussenresultaten: onduidelijkheid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informatiearchitecturen NORA en GEMMA zijn vaak eindplaatjes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Onvoldoende kennis SOA-architectuur en webservices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Oude software past niet bij SOA en geen 2 pakketten voor 1 taak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gevolgen NUP migratiepad zijn voor veel gemeenten niet helder, wat voelt als niet maakbaar; grote risico’s: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aantal gemeenten heeft reorganisatie naar publieksdienst nog niet gemaakt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afhankelijkheid landelijke planningen nieuwe voorzieningen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NUP planning leidt tot complex migratiepad met veel tijd en softwarematige afhankelijkheden, terwijl winkel moet open blijv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ooral lijnmanagement heeft weinig affiniteit nieuwe informatieontwikkelin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ergt goed leiderschap in informatiefunctie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rote investeringen, maar wat levert het op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A43E-97D5-4333-81D1-2A8400C31EE0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4C65-B320-4F70-A2DD-3242CFAC71B9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0040" y="1496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Risico’s in BAG-project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1200" y="2320560"/>
            <a:ext cx="82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doe ik de goede dingen op goede moment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oorloper heeft nog geen handreikin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nieuwe dingen hoog risico: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startsituatie kwaliteit informatie onduidelijk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aak aanvullende acties/eisen vanuit het rijk invoe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oede inschatting tijdsbeslag moeilijk </a:t>
            </a:r>
            <a:r>
              <a:rPr b="0" lang="nl-NL" sz="1800" spc="-1" strike="noStrike">
                <a:solidFill>
                  <a:srgbClr val="339999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 eerst pilot / proefgebied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eel extra versies software nodig: veel testen en extra kosten leveranciers en gemeenten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bij BAG &gt; 10, te lange spanningsboog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interne reorganisatie en wisselend lijnmanagement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de devil is in de detail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problemen met de intern beschikbare capaciteit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moeilijke beheersing 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… </a:t>
            </a: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project wordt dan een proces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E8D-4EA1-4CB1-A392-AD63C546DD8E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1E7-5FEC-4DEA-A660-14A98A29B5B2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42880" y="14396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99"/>
                </a:solidFill>
                <a:latin typeface="Arial"/>
              </a:rPr>
              <a:t>Zorg voor het Rijk</a:t>
            </a:r>
            <a:endParaRPr b="1" lang="en-US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3440" y="2133720"/>
            <a:ext cx="7546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samenhang in stelsel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verbindende gegevensrelaties liggen soms buiten stelsel BR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eenduidige structuren voor zowel BR als andere voorziening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basisregistraties meer richting RSGB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managen van tijdsaspecten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9999"/>
                </a:solidFill>
                <a:latin typeface="Arial"/>
              </a:rPr>
              <a:t>graag bestemmingen volgende basisregistratie VROM </a:t>
            </a:r>
            <a:endParaRPr b="0" lang="en-US" sz="18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trek gemeentelijke voorlopers (beter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alle gemeenten op zelfde niveau krijg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wetgeving blijvend moderniseren en op elkaar afstemmen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betrouwbare informatievoorziening aan burger eerste vereiste (=punt 7 burger service code)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9999"/>
                </a:solidFill>
                <a:latin typeface="Arial"/>
              </a:rPr>
              <a:t>rekeninghoudend met privacy burger</a:t>
            </a: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ijdelijke aanduiding voor datum 3"/>
          <p:cNvSpPr/>
          <p:nvPr/>
        </p:nvSpPr>
        <p:spPr>
          <a:xfrm>
            <a:off x="47242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5D19-E2A6-4D7B-BD9A-544912572DB4}" type="datetime">
              <a:rPr b="0" lang="nl-NL" sz="800" spc="-1" strike="noStrike">
                <a:solidFill>
                  <a:srgbClr val="cc0000"/>
                </a:solidFill>
                <a:latin typeface="Arial"/>
              </a:rPr>
              <a:t>30-07-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ijdelijke aanduiding voor voettekst 4"/>
          <p:cNvSpPr/>
          <p:nvPr/>
        </p:nvSpPr>
        <p:spPr>
          <a:xfrm>
            <a:off x="59436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cc0000"/>
                </a:solidFill>
                <a:latin typeface="Arial"/>
              </a:rPr>
              <a:t>Present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jdelijke aanduiding voor dianummer 5"/>
          <p:cNvSpPr/>
          <p:nvPr/>
        </p:nvSpPr>
        <p:spPr>
          <a:xfrm>
            <a:off x="80010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D582-BA17-4BF2-AB11-3FCAD8DE36D5}" type="slidenum">
              <a:rPr b="1" lang="nl-NL" sz="8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200" spc="-1" strike="noStrike">
              <a:solidFill>
                <a:srgbClr val="3399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339999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2:43:18Z</dcterms:created>
  <dc:creator>Rik Duursma</dc:creator>
  <dc:description/>
  <dc:language>en-US</dc:language>
  <cp:lastModifiedBy>duursmr</cp:lastModifiedBy>
  <cp:lastPrinted>2003-10-14T14:50:15Z</cp:lastPrinted>
  <dcterms:modified xsi:type="dcterms:W3CDTF">2010-02-15T16:29:54Z</dcterms:modified>
  <cp:revision>290</cp:revision>
  <dc:subject/>
  <dc:title>PowerPoint Presentation</dc:title>
</cp:coreProperties>
</file>